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jpeg" ContentType="image/jpeg"/>
  <Override PartName="/ppt/media/image6.wmf" ContentType="image/x-wmf"/>
  <Override PartName="/ppt/media/image7.wmf" ContentType="image/x-wmf"/>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comments/comment1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12193588" cy="6858000"/>
  <p:notesSz cx="6858000" cy="9144000"/>
</p:presentation>
</file>

<file path=ppt/commentAuthors.xml><?xml version="1.0" encoding="utf-8"?>
<p:cmAuthorLst xmlns:p="http://schemas.openxmlformats.org/presentationml/2006/main">
  <p:cmAuthor id="0" name="GERENTE-" initials="G"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Relationship Id="rId46" Type="http://schemas.openxmlformats.org/officeDocument/2006/relationships/commentAuthors" Target="commentAuthors.xml"/>
</Relationships>
</file>

<file path=ppt/comments/comment12.xml><?xml version="1.0" encoding="utf-8"?>
<p:cmLst xmlns:p="http://schemas.openxmlformats.org/presentationml/2006/main">
  <p:cm authorId="0" dt="2021-06-15T15:44:37.109000000" idx="1">
    <p:pos x="3740" y="175"/>
    <p:text/>
  </p:cm>
</p:cmLst>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1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21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1A2B-4BFF-4CD1-8C43-2DE03DE04F2A}"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685800" y="1143000"/>
            <a:ext cx="5486400" cy="3086280"/>
          </a:xfrm>
          <a:prstGeom prst="rect">
            <a:avLst/>
          </a:prstGeom>
          <a:ln w="0">
            <a:noFill/>
          </a:ln>
        </p:spPr>
      </p:sp>
      <p:sp>
        <p:nvSpPr>
          <p:cNvPr id="3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4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DFA7-1C41-4C6A-B664-7135D72D9F7C}"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685800" y="1143000"/>
            <a:ext cx="5486400" cy="3086280"/>
          </a:xfrm>
          <a:prstGeom prst="rect">
            <a:avLst/>
          </a:prstGeom>
          <a:ln w="0">
            <a:noFill/>
          </a:ln>
        </p:spPr>
      </p:sp>
      <p:sp>
        <p:nvSpPr>
          <p:cNvPr id="3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D8A9-D431-48CC-9200-850EAF9B13BB}"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685800" y="1143000"/>
            <a:ext cx="5486400" cy="3086280"/>
          </a:xfrm>
          <a:prstGeom prst="rect">
            <a:avLst/>
          </a:prstGeom>
          <a:ln w="0">
            <a:noFill/>
          </a:ln>
        </p:spPr>
      </p:sp>
      <p:sp>
        <p:nvSpPr>
          <p:cNvPr id="3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53"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EEEBC-37A0-48D8-A3BD-1AC2B0E70514}"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685800" y="1143000"/>
            <a:ext cx="5486400" cy="3086280"/>
          </a:xfrm>
          <a:prstGeom prst="rect">
            <a:avLst/>
          </a:prstGeom>
          <a:ln w="0">
            <a:noFill/>
          </a:ln>
        </p:spPr>
      </p:sp>
      <p:sp>
        <p:nvSpPr>
          <p:cNvPr id="3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56"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2D1A-44E4-42C8-9C6F-967BBBB84910}"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685800" y="1143000"/>
            <a:ext cx="5486400" cy="3086280"/>
          </a:xfrm>
          <a:prstGeom prst="rect">
            <a:avLst/>
          </a:prstGeom>
          <a:ln w="0">
            <a:noFill/>
          </a:ln>
        </p:spPr>
      </p:sp>
      <p:sp>
        <p:nvSpPr>
          <p:cNvPr id="3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59"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0CB8-3EC1-41A9-91D7-D819D5AFF840}"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685800" y="1143000"/>
            <a:ext cx="5486400" cy="3086280"/>
          </a:xfrm>
          <a:prstGeom prst="rect">
            <a:avLst/>
          </a:prstGeom>
          <a:ln w="0">
            <a:noFill/>
          </a:ln>
        </p:spPr>
      </p:sp>
      <p:sp>
        <p:nvSpPr>
          <p:cNvPr id="3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62"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ECD9-9CE1-4B8B-BFB4-FCAF218AB30E}"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685800" y="1143000"/>
            <a:ext cx="5486400" cy="3086280"/>
          </a:xfrm>
          <a:prstGeom prst="rect">
            <a:avLst/>
          </a:prstGeom>
          <a:ln w="0">
            <a:noFill/>
          </a:ln>
        </p:spPr>
      </p:sp>
      <p:sp>
        <p:nvSpPr>
          <p:cNvPr id="3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65"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D9CB-9025-4539-AD8F-21B0463EFD8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2F21F-151A-4CB4-B259-38BDB34B2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D4330-9E87-4079-9D0F-8B86EA8F5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D06AB-574B-4B12-8DB3-648343E5C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8B14E-D124-4E48-AB67-5701718F5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C38502-DA46-45A1-8C96-917C2CF05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236C7-1428-4BF8-892A-5CD9493AC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A565F-66EE-4CC2-831E-8E1867833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F44FE-C977-4AC3-871C-8CB966FFC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CCE38-EE25-46CF-B110-25B2B18A6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7A9C7-269C-48DA-BF4E-E18B4EBC6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CF590-7A00-4E2D-A494-3AA68E65C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8AB39-AEBC-4810-ABAD-7B9BDA597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8193F-D3A7-437F-BF06-0F4B19E84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2EFD8-AB8B-4453-B526-9DC696DAC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CA6BE-DB13-403B-890E-6624EFDC8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244EA-BE62-48E4-83C8-44A9A2F9B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7F7FF9-F0D2-46B9-8B2D-04939F4FF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453CA9-B16D-4DA5-8F84-BF2825350F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C0AC22-72E5-4E2B-ACC5-335E69688A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2E2B2D-FAD3-4939-B177-1FEB7D791F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DE3442-0D01-40C9-A502-DD141E392B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6AD349-E296-4EDB-B4C6-41765F0016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922C2-B761-4E49-8408-C12E118C7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09B1B7-140C-4003-9C36-8694E69528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A4B0ED-C3E9-4CEC-AD4D-F606BFB79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34FA21-9781-4AA0-AF16-C29E4F001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E3085-F63C-4C84-89F5-4F8F278CD8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19F638-2B64-4A64-B951-7764D6BD4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37DF4B-C803-4C3C-B0CF-F54D4EA3A4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60C5A1-57B3-4FD1-A8A1-D40FEC3024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857659-ACAC-444A-B2BE-7D2BF94A3B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87A97C-DF38-4206-9CB4-B7E92FE5C2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E7D198-743A-433A-B9D1-D89ACF48B1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C7F5B-15ED-4E9B-87BC-D072A803E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E0E3C4-B582-44B8-986D-59A4BACFBA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C78B34-F51A-466C-86E2-B5890D5120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B51A87-2AB0-4216-AF91-188FBB4E69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3711A3-0CA4-41D7-8F76-071E42612D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3DAFD-F235-4BBA-AE4C-4D22339C9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62DCA6-D541-494C-A04E-26EDB0F377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025134-F36B-45A8-B8CE-52342A846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A7F543-B72D-432C-AADA-6F79603E62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E9ED71-DCF8-42CF-AA42-489B410B80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DF57E-3B04-475A-BBB4-77F2649D6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B51B3-4678-4DD0-A4F0-5707899D3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4F86F-6D63-4DA8-935B-B5A89B29F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ECBDF-C5DA-4361-B47A-0A2F8614E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F46AA-B265-4151-BF9A-A3130468F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898989"/>
                </a:solidFill>
                <a:latin typeface="Calibri"/>
              </a:rPr>
              <a:t>&lt;date/time&gt;</a:t>
            </a:r>
            <a:endParaRPr b="0" lang="en-US" sz="900" spc="-1" strike="noStrike">
              <a:solidFill>
                <a:srgbClr val="000000"/>
              </a:solidFill>
              <a:latin typeface="Calibri"/>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900" spc="-1" strike="noStrike">
                <a:solidFill>
                  <a:srgbClr val="90c226"/>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FBDE-0AF6-42D3-A0C4-F20BC4A7B40C}" type="slidenum">
              <a:rPr b="0" lang="es-CO" sz="900" spc="-1" strike="noStrike">
                <a:solidFill>
                  <a:srgbClr val="90c226"/>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360" y="-7920"/>
            <a:ext cx="12192480" cy="6865920"/>
            <a:chOff x="-360" y="-7920"/>
            <a:chExt cx="12192480" cy="6865920"/>
          </a:xfrm>
        </p:grpSpPr>
        <p:sp>
          <p:nvSpPr>
            <p:cNvPr id="53" name="Straight Connector 31"/>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Isosceles Triangle 26"/>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Isosceles Triangle 30"/>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Isosceles Triangle 18"/>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898989"/>
                </a:solidFill>
                <a:latin typeface="Calibri"/>
              </a:rPr>
              <a:t>&lt;date/time&gt;</a:t>
            </a:r>
            <a:endParaRPr b="0" lang="en-US" sz="900" spc="-1" strike="noStrike">
              <a:solidFill>
                <a:srgbClr val="000000"/>
              </a:solidFill>
              <a:latin typeface="Calibri"/>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900" spc="-1" strike="noStrike">
                <a:solidFill>
                  <a:srgbClr val="90c226"/>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4FD8-2F1C-451F-BE46-BB23EC440912}" type="slidenum">
              <a:rPr b="0" lang="es-CO" sz="900" spc="-1" strike="noStrike">
                <a:solidFill>
                  <a:srgbClr val="90c226"/>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5" name="TextBox 19"/>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Calibri"/>
            </a:endParaRPr>
          </a:p>
        </p:txBody>
      </p:sp>
      <p:sp>
        <p:nvSpPr>
          <p:cNvPr id="116" name="TextBox 21"/>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Calibri"/>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898989"/>
                </a:solidFill>
                <a:latin typeface="Calibri"/>
              </a:rPr>
              <a:t>&lt;date/time&gt;</a:t>
            </a:r>
            <a:endParaRPr b="0" lang="en-US" sz="900" spc="-1" strike="noStrike">
              <a:solidFill>
                <a:srgbClr val="000000"/>
              </a:solidFill>
              <a:latin typeface="Calibri"/>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900" spc="-1" strike="noStrike">
                <a:solidFill>
                  <a:srgbClr val="90c226"/>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6871-874B-4A21-A5D6-23EAA5372D0E}" type="slidenum">
              <a:rPr b="0" lang="es-CO" sz="900" spc="-1" strike="noStrike">
                <a:solidFill>
                  <a:srgbClr val="90c226"/>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Calibri"/>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Calibri"/>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898989"/>
                </a:solidFill>
                <a:latin typeface="Calibri"/>
              </a:rPr>
              <a:t>&lt;date/time&gt;</a:t>
            </a:r>
            <a:endParaRPr b="0" lang="en-US" sz="900" spc="-1" strike="noStrike">
              <a:solidFill>
                <a:srgbClr val="000000"/>
              </a:solidFill>
              <a:latin typeface="Calibri"/>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900" spc="-1" strike="noStrike">
                <a:solidFill>
                  <a:srgbClr val="90c226"/>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9907-974F-4E65-8214-E5254EF17A6B}" type="slidenum">
              <a:rPr b="0" lang="es-CO" sz="900" spc="-1" strike="noStrike">
                <a:solidFill>
                  <a:srgbClr val="90c226"/>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90c226"/>
                </a:solidFill>
                <a:latin typeface="Trebuchet MS"/>
              </a:rPr>
              <a:t>ESE HOSPITAL PBRO LUIS FELIPE ARBELAEZ –MUNICIPIO DE aLEJANDRIA</a:t>
            </a:r>
            <a:endParaRPr b="0" lang="en-US" sz="3600" spc="-1" strike="noStrike">
              <a:solidFill>
                <a:srgbClr val="90c226"/>
              </a:solidFill>
              <a:latin typeface="Trebuchet MS"/>
            </a:endParaRPr>
          </a:p>
        </p:txBody>
      </p:sp>
      <p:pic>
        <p:nvPicPr>
          <p:cNvPr id="220" name="Marcador de contenido 3" descr=""/>
          <p:cNvPicPr/>
          <p:nvPr/>
        </p:nvPicPr>
        <p:blipFill>
          <a:blip r:embed="rId1"/>
          <a:stretch/>
        </p:blipFill>
        <p:spPr>
          <a:xfrm>
            <a:off x="2389320" y="2133720"/>
            <a:ext cx="5173560" cy="38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64960" y="365040"/>
            <a:ext cx="11088720" cy="757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1.GESTION DE SERVICIOS DE SALUD</a:t>
            </a:r>
            <a:endParaRPr b="0" lang="en-US" sz="3600" spc="-1" strike="noStrike">
              <a:solidFill>
                <a:srgbClr val="90c226"/>
              </a:solidFill>
              <a:latin typeface="Trebuchet MS"/>
            </a:endParaRPr>
          </a:p>
        </p:txBody>
      </p:sp>
      <p:sp>
        <p:nvSpPr>
          <p:cNvPr id="250" name=""/>
          <p:cNvSpPr txBox="1"/>
          <p:nvPr/>
        </p:nvSpPr>
        <p:spPr>
          <a:xfrm>
            <a:off x="151920" y="1122120"/>
            <a:ext cx="11873160" cy="56386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CAPACIDAD INSTALADA REPS</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graphicFrame>
        <p:nvGraphicFramePr>
          <p:cNvPr id="251" name=""/>
          <p:cNvGraphicFramePr/>
          <p:nvPr/>
        </p:nvGraphicFramePr>
        <p:xfrm>
          <a:off x="264960" y="1487520"/>
          <a:ext cx="11253960" cy="5068800"/>
        </p:xfrm>
        <a:graphic>
          <a:graphicData uri="http://schemas.openxmlformats.org/drawingml/2006/table">
            <a:tbl>
              <a:tblPr/>
              <a:tblGrid>
                <a:gridCol w="1874880"/>
                <a:gridCol w="1866960"/>
                <a:gridCol w="1093680"/>
                <a:gridCol w="1562400"/>
                <a:gridCol w="1568160"/>
                <a:gridCol w="1089000"/>
                <a:gridCol w="2198880"/>
              </a:tblGrid>
              <a:tr h="565200">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Grupo</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ncepto</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ntidad</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úmero de Placa</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odalidad</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odelo</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arjeta de propiedad</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809640">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MBULANCI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ásica</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PN988</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RRESTRE</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2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02071365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809640">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MBULANCI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ásica</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DT763</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RRESTRE</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5</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00969819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565200">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M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diátrica</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623880">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M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ulto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564840">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M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bstetricia</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565200">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AL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to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565200">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AL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edimiento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760" rIns="6876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bl>
          </a:graphicData>
        </a:graphic>
      </p:graphicFrame>
      <p:sp>
        <p:nvSpPr>
          <p:cNvPr id="252" name="Rectangle 27"/>
          <p:cNvSpPr/>
          <p:nvPr/>
        </p:nvSpPr>
        <p:spPr>
          <a:xfrm>
            <a:off x="2851200" y="3219480"/>
            <a:ext cx="4068720" cy="428760"/>
          </a:xfrm>
          <a:prstGeom prst="rect">
            <a:avLst/>
          </a:prstGeom>
          <a:noFill/>
          <a:ln w="0">
            <a:noFill/>
          </a:ln>
        </p:spPr>
        <p:style>
          <a:lnRef idx="0"/>
          <a:fillRef idx="0"/>
          <a:effectRef idx="0"/>
          <a:fontRef idx="minor"/>
        </p:style>
        <p:txBody>
          <a:bodyPr lIns="6480" rIns="3492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74400" y="207720"/>
            <a:ext cx="10978920" cy="928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1.GESTION DE SERVICIOS EN SALUD</a:t>
            </a:r>
            <a:endParaRPr b="0" lang="en-US" sz="3600" spc="-1" strike="noStrike">
              <a:solidFill>
                <a:srgbClr val="90c226"/>
              </a:solidFill>
              <a:latin typeface="Trebuchet MS"/>
            </a:endParaRPr>
          </a:p>
        </p:txBody>
      </p:sp>
      <p:sp>
        <p:nvSpPr>
          <p:cNvPr id="254" name=""/>
          <p:cNvSpPr txBox="1"/>
          <p:nvPr/>
        </p:nvSpPr>
        <p:spPr>
          <a:xfrm>
            <a:off x="221760" y="1136160"/>
            <a:ext cx="11595240" cy="55134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Población atendida en la brigadas de salud 202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Total usuarios atendidos en las brigadas de Salu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404040"/>
                </a:solidFill>
                <a:latin typeface="Trebuchet MS"/>
              </a:rPr>
              <a:t>Actividades PEDT--                 Atención Salud Oral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404040"/>
                </a:solidFill>
                <a:latin typeface="Trebuchet MS"/>
              </a:rPr>
              <a:t>Charlas de salu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51920" y="111240"/>
            <a:ext cx="11804760" cy="955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1.GESTION DE SERVICIOS EN SALUD</a:t>
            </a:r>
            <a:endParaRPr b="0" lang="en-US" sz="3600" spc="-1" strike="noStrike">
              <a:solidFill>
                <a:srgbClr val="90c226"/>
              </a:solidFill>
              <a:latin typeface="Trebuchet MS"/>
            </a:endParaRPr>
          </a:p>
        </p:txBody>
      </p:sp>
      <p:sp>
        <p:nvSpPr>
          <p:cNvPr id="256" name=""/>
          <p:cNvSpPr txBox="1"/>
          <p:nvPr/>
        </p:nvSpPr>
        <p:spPr>
          <a:xfrm>
            <a:off x="152280" y="1301400"/>
            <a:ext cx="11693520" cy="52657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TALENTO HUMANO EN SALU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graphicFrame>
        <p:nvGraphicFramePr>
          <p:cNvPr id="257" name=""/>
          <p:cNvGraphicFramePr/>
          <p:nvPr/>
        </p:nvGraphicFramePr>
        <p:xfrm>
          <a:off x="152280" y="1801800"/>
          <a:ext cx="11377800" cy="4626000"/>
        </p:xfrm>
        <a:graphic>
          <a:graphicData uri="http://schemas.openxmlformats.org/drawingml/2006/table">
            <a:tbl>
              <a:tblPr/>
              <a:tblGrid>
                <a:gridCol w="4046760"/>
                <a:gridCol w="4937040"/>
                <a:gridCol w="2394000"/>
              </a:tblGrid>
              <a:tr h="487080">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ÓDIGO según Dec. 785 de 2005</a:t>
                      </a:r>
                      <a:endParaRPr b="0" lang="en-US" sz="16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Denominación del empleo según Dec. 785 de 2005</a:t>
                      </a:r>
                      <a:endParaRPr b="0" lang="en-US" sz="16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No. de cargos</a:t>
                      </a:r>
                      <a:endParaRPr b="0" lang="en-US" sz="16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243720">
                <a:tc gridSpan="3">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argos Administrativo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085</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Gerente Empresa Social del Estado</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068</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administrativo</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70</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de Servicios Generale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77</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 </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720">
                <a:tc gridSpan="2">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 </a:t>
                      </a:r>
                      <a:r>
                        <a:rPr b="1" lang="es-CO" sz="1600" spc="-1" strike="noStrike">
                          <a:solidFill>
                            <a:srgbClr val="ffffff"/>
                          </a:solidFill>
                          <a:latin typeface="Trebuchet MS"/>
                        </a:rPr>
                        <a:t>TOTAL, ADMINISTRATIVO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Narrow"/>
                          <a:ea typeface="Times New Roman"/>
                        </a:rPr>
                        <a:t>3</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3720">
                <a:tc gridSpan="3">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argos Asistenciale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305</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Médico Servicio Social Obligatorio</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2</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360</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325</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Odontólogo</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314</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Técnico Operativo - Regente de Farmacia</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12</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Área Salud - Vacunación</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12</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Área Salud - Enfermería PyP</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7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12</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Área Salud - Enfermería </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4</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3720">
                <a:tc gridSpan="2">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TOTAL ASISTENCIALE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0</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720">
                <a:tc gridSpan="2">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TOTAL CARGO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3</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31560" y="365040"/>
            <a:ext cx="11652120" cy="1325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90c226"/>
                </a:solidFill>
                <a:latin typeface="Trebuchet MS"/>
              </a:rPr>
              <a:t>1.GESTION DE SERVICIOS EN SALUD</a:t>
            </a:r>
            <a:br>
              <a:rPr sz="3200"/>
            </a:br>
            <a:r>
              <a:rPr b="0" lang="es-ES" sz="2200" spc="-1" strike="noStrike">
                <a:solidFill>
                  <a:srgbClr val="90c226"/>
                </a:solidFill>
                <a:latin typeface="Trebuchet MS"/>
              </a:rPr>
              <a:t>TALENTO HUMANO EN SALUD</a:t>
            </a:r>
            <a:br>
              <a:rPr sz="2200"/>
            </a:br>
            <a:r>
              <a:rPr b="0" lang="es-ES" sz="2200" spc="-1" strike="noStrike">
                <a:solidFill>
                  <a:srgbClr val="90c226"/>
                </a:solidFill>
                <a:latin typeface="Trebuchet MS"/>
              </a:rPr>
              <a:t>Contratistas</a:t>
            </a:r>
            <a:br>
              <a:rPr sz="2200"/>
            </a:br>
            <a:endParaRPr b="0" lang="en-US" sz="2200" spc="-1" strike="noStrike">
              <a:solidFill>
                <a:srgbClr val="90c226"/>
              </a:solidFill>
              <a:latin typeface="Trebuchet MS"/>
            </a:endParaRPr>
          </a:p>
        </p:txBody>
      </p:sp>
      <p:graphicFrame>
        <p:nvGraphicFramePr>
          <p:cNvPr id="259" name=""/>
          <p:cNvGraphicFramePr/>
          <p:nvPr/>
        </p:nvGraphicFramePr>
        <p:xfrm>
          <a:off x="331920" y="1690560"/>
          <a:ext cx="11147400" cy="4802400"/>
        </p:xfrm>
        <a:graphic>
          <a:graphicData uri="http://schemas.openxmlformats.org/drawingml/2006/table">
            <a:tbl>
              <a:tblPr/>
              <a:tblGrid>
                <a:gridCol w="372960"/>
                <a:gridCol w="8021520"/>
                <a:gridCol w="1830600"/>
                <a:gridCol w="922320"/>
              </a:tblGrid>
              <a:tr h="455760">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 </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OBJETO</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800" spc="-1" strike="noStrike">
                          <a:solidFill>
                            <a:srgbClr val="ffffff"/>
                          </a:solidFill>
                          <a:latin typeface="Trebuchet MS"/>
                        </a:rPr>
                        <a:t>ÁREA</a:t>
                      </a:r>
                      <a:endParaRPr b="0" lang="en-US" sz="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18720">
                      <a:solidFill>
                        <a:srgbClr val="ffffff"/>
                      </a:solidFill>
                    </a:lnB>
                    <a:solidFill>
                      <a:srgbClr val="90c226"/>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800" spc="-1" strike="noStrike">
                          <a:solidFill>
                            <a:srgbClr val="ffffff"/>
                          </a:solidFill>
                          <a:latin typeface="Trebuchet MS"/>
                        </a:rPr>
                        <a:t>CANT. PERS.</a:t>
                      </a:r>
                      <a:endParaRPr b="0" lang="en-US" sz="8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ffffff"/>
                      </a:solidFill>
                    </a:lnT>
                    <a:lnB w="18720">
                      <a:solidFill>
                        <a:srgbClr val="ffffff"/>
                      </a:solidFill>
                    </a:lnB>
                    <a:solidFill>
                      <a:srgbClr val="90c226"/>
                    </a:solidFill>
                  </a:tcPr>
                </a:tc>
              </a:tr>
              <a:tr h="31284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1</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Asesor Jurídico </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Administ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18720">
                      <a:solidFill>
                        <a:srgbClr val="ffffff"/>
                      </a:solidFill>
                    </a:lnT>
                    <a:lnB w="5760">
                      <a:solidFill>
                        <a:srgbClr val="ffffff"/>
                      </a:solidFill>
                    </a:lnB>
                    <a:solidFill>
                      <a:srgbClr val="dbe9cd"/>
                    </a:solidFill>
                  </a:tcPr>
                </a:tc>
                <a:tc>
                  <a:txBody>
                    <a:bodyPr lIns="44280" rIns="442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1</a:t>
                      </a:r>
                      <a:endParaRPr b="0" lang="en-US" sz="1800" spc="-1" strike="noStrike">
                        <a:solidFill>
                          <a:srgbClr val="000000"/>
                        </a:solidFill>
                        <a:latin typeface="Calibri"/>
                      </a:endParaRPr>
                    </a:p>
                  </a:txBody>
                  <a:tcPr anchor="t" marL="44280" marR="44280">
                    <a:lnL w="5760">
                      <a:solidFill>
                        <a:srgbClr val="000000"/>
                      </a:solidFill>
                    </a:lnL>
                    <a:lnR w="5760">
                      <a:solidFill>
                        <a:srgbClr val="ffffff"/>
                      </a:solidFill>
                    </a:lnR>
                    <a:lnT w="18720">
                      <a:solidFill>
                        <a:srgbClr val="ffffff"/>
                      </a:solidFill>
                    </a:lnT>
                    <a:lnB w="5760">
                      <a:solidFill>
                        <a:srgbClr val="000000"/>
                      </a:solidFill>
                    </a:lnB>
                    <a:solidFill>
                      <a:srgbClr val="dbe9cd"/>
                    </a:solidFill>
                  </a:tcPr>
                </a:tc>
              </a:tr>
              <a:tr h="3124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2</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Auxiliar Administrativo (Admisiones, Cartera)</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Administ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5760">
                      <a:solidFill>
                        <a:srgbClr val="ffffff"/>
                      </a:solidFill>
                    </a:lnB>
                    <a:solidFill>
                      <a:srgbClr val="eef4e8"/>
                    </a:solidFill>
                  </a:tcPr>
                </a:tc>
                <a:tc>
                  <a:txBody>
                    <a:bodyPr lIns="44280" rIns="4428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1</a:t>
                      </a:r>
                      <a:endParaRPr b="0" lang="en-US" sz="1800" spc="-1" strike="noStrike">
                        <a:solidFill>
                          <a:srgbClr val="000000"/>
                        </a:solidFill>
                        <a:latin typeface="Calibri"/>
                      </a:endParaRPr>
                    </a:p>
                  </a:txBody>
                  <a:tcPr anchor="ctr" marL="44280" marR="44280">
                    <a:lnL w="5760">
                      <a:solidFill>
                        <a:srgbClr val="000000"/>
                      </a:solidFill>
                    </a:lnL>
                    <a:lnR w="5760">
                      <a:solidFill>
                        <a:srgbClr val="ffffff"/>
                      </a:solidFill>
                    </a:lnR>
                    <a:lnT w="5760">
                      <a:solidFill>
                        <a:srgbClr val="000000"/>
                      </a:solidFill>
                    </a:lnT>
                    <a:lnB w="5760">
                      <a:solidFill>
                        <a:srgbClr val="000000"/>
                      </a:solidFill>
                    </a:lnB>
                    <a:solidFill>
                      <a:srgbClr val="eef4e8"/>
                    </a:solidFill>
                  </a:tcPr>
                </a:tc>
              </a:tr>
              <a:tr h="29556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3</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Auxiliar Administrativo (Contabilidad, Gestión Documental</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Administ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5760">
                      <a:solidFill>
                        <a:srgbClr val="ffffff"/>
                      </a:solidFill>
                    </a:lnB>
                    <a:solidFill>
                      <a:srgbClr val="dbe9cd"/>
                    </a:solidFill>
                  </a:tcPr>
                </a:tc>
                <a:tc>
                  <a:txBody>
                    <a:bodyPr lIns="44280" rIns="4428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1</a:t>
                      </a:r>
                      <a:endParaRPr b="0" lang="en-US" sz="1800" spc="-1" strike="noStrike">
                        <a:solidFill>
                          <a:srgbClr val="000000"/>
                        </a:solidFill>
                        <a:latin typeface="Calibri"/>
                      </a:endParaRPr>
                    </a:p>
                  </a:txBody>
                  <a:tcPr anchor="ctr" marL="44280" marR="44280">
                    <a:lnL w="5760">
                      <a:solidFill>
                        <a:srgbClr val="000000"/>
                      </a:solidFill>
                    </a:lnL>
                    <a:lnR w="5760">
                      <a:solidFill>
                        <a:srgbClr val="ffffff"/>
                      </a:solidFill>
                    </a:lnR>
                    <a:lnT w="5760">
                      <a:solidFill>
                        <a:srgbClr val="000000"/>
                      </a:solidFill>
                    </a:lnT>
                    <a:lnB w="5760">
                      <a:solidFill>
                        <a:srgbClr val="000000"/>
                      </a:solidFill>
                    </a:lnB>
                    <a:solidFill>
                      <a:srgbClr val="dbe9cd"/>
                    </a:solidFill>
                  </a:tcPr>
                </a:tc>
              </a:tr>
              <a:tr h="3124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4</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rebuchet MS"/>
                        </a:rPr>
                        <a:t>Enfermera profesional</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Ope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5760">
                      <a:solidFill>
                        <a:srgbClr val="ffffff"/>
                      </a:solidFill>
                    </a:lnB>
                    <a:solidFill>
                      <a:srgbClr val="eef4e8"/>
                    </a:solidFill>
                  </a:tcPr>
                </a:tc>
                <a:tc>
                  <a:txBody>
                    <a:bodyPr lIns="44280" rIns="4428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1</a:t>
                      </a:r>
                      <a:endParaRPr b="0" lang="en-US" sz="1800" spc="-1" strike="noStrike">
                        <a:solidFill>
                          <a:srgbClr val="000000"/>
                        </a:solidFill>
                        <a:latin typeface="Calibri"/>
                      </a:endParaRPr>
                    </a:p>
                  </a:txBody>
                  <a:tcPr anchor="ctr" marL="44280" marR="44280">
                    <a:lnL w="5760">
                      <a:solidFill>
                        <a:srgbClr val="000000"/>
                      </a:solidFill>
                    </a:lnL>
                    <a:lnR w="5760">
                      <a:solidFill>
                        <a:srgbClr val="ffffff"/>
                      </a:solidFill>
                    </a:lnR>
                    <a:lnT w="5760">
                      <a:solidFill>
                        <a:srgbClr val="000000"/>
                      </a:solidFill>
                    </a:lnT>
                    <a:lnB w="5760">
                      <a:solidFill>
                        <a:srgbClr val="000000"/>
                      </a:solidFill>
                    </a:lnB>
                    <a:solidFill>
                      <a:srgbClr val="eef4e8"/>
                    </a:solidFill>
                  </a:tcPr>
                </a:tc>
              </a:tr>
              <a:tr h="31284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5</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Bacterióloga</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Ope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5760">
                      <a:solidFill>
                        <a:srgbClr val="000000"/>
                      </a:solidFill>
                    </a:lnB>
                    <a:solidFill>
                      <a:srgbClr val="dbe9cd"/>
                    </a:solidFill>
                  </a:tcPr>
                </a:tc>
                <a:tc>
                  <a:txBody>
                    <a:bodyPr lIns="44280" rIns="4428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1</a:t>
                      </a:r>
                      <a:endParaRPr b="0" lang="en-US" sz="1800" spc="-1" strike="noStrike">
                        <a:solidFill>
                          <a:srgbClr val="000000"/>
                        </a:solidFill>
                        <a:latin typeface="Calibri"/>
                      </a:endParaRPr>
                    </a:p>
                  </a:txBody>
                  <a:tcPr anchor="ctr" marL="44280" marR="44280">
                    <a:lnL w="5760">
                      <a:solidFill>
                        <a:srgbClr val="000000"/>
                      </a:solidFill>
                    </a:lnL>
                    <a:lnR w="5760">
                      <a:solidFill>
                        <a:srgbClr val="ffffff"/>
                      </a:solidFill>
                    </a:lnR>
                    <a:lnT w="5760">
                      <a:solidFill>
                        <a:srgbClr val="000000"/>
                      </a:solidFill>
                    </a:lnT>
                    <a:lnB w="5760">
                      <a:solidFill>
                        <a:srgbClr val="000000"/>
                      </a:solidFill>
                    </a:lnB>
                    <a:solidFill>
                      <a:srgbClr val="dbe9cd"/>
                    </a:solidFill>
                  </a:tcPr>
                </a:tc>
              </a:tr>
              <a:tr h="29520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6</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Celador </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Administ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000000"/>
                      </a:solidFill>
                    </a:lnT>
                    <a:lnB w="5760">
                      <a:solidFill>
                        <a:srgbClr val="000000"/>
                      </a:solidFill>
                    </a:lnB>
                    <a:solidFill>
                      <a:srgbClr val="eef4e8"/>
                    </a:solidFill>
                  </a:tcPr>
                </a:tc>
                <a:tc>
                  <a:txBody>
                    <a:bodyPr lIns="44280" rIns="442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1</a:t>
                      </a:r>
                      <a:endParaRPr b="0" lang="en-US" sz="18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eef4e8"/>
                    </a:solidFill>
                  </a:tcPr>
                </a:tc>
              </a:tr>
              <a:tr h="31284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7</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Contador</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Administ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000000"/>
                      </a:solidFill>
                    </a:lnT>
                    <a:lnB w="5760">
                      <a:solidFill>
                        <a:srgbClr val="ffffff"/>
                      </a:solidFill>
                    </a:lnB>
                    <a:solidFill>
                      <a:srgbClr val="dbe9cd"/>
                    </a:solidFill>
                  </a:tcPr>
                </a:tc>
                <a:tc>
                  <a:txBody>
                    <a:bodyPr lIns="44280" rIns="442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1</a:t>
                      </a:r>
                      <a:endParaRPr b="0" lang="en-US" sz="18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ffffff"/>
                      </a:solidFill>
                    </a:lnB>
                    <a:solidFill>
                      <a:srgbClr val="dbe9cd"/>
                    </a:solidFill>
                  </a:tcPr>
                </a:tc>
              </a:tr>
              <a:tr h="31284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8</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onductor y oficios varios                                                                                                             </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ope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5760">
                      <a:solidFill>
                        <a:srgbClr val="ffffff"/>
                      </a:solidFill>
                    </a:lnB>
                    <a:solidFill>
                      <a:srgbClr val="eef4e8"/>
                    </a:solidFill>
                  </a:tcPr>
                </a:tc>
                <a:tc>
                  <a:txBody>
                    <a:bodyPr lIns="44280" rIns="442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1</a:t>
                      </a:r>
                      <a:endParaRPr b="0" lang="en-US" sz="18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ffffff"/>
                      </a:solidFill>
                    </a:lnT>
                    <a:lnB w="5760">
                      <a:solidFill>
                        <a:srgbClr val="000000"/>
                      </a:solidFill>
                    </a:lnB>
                    <a:solidFill>
                      <a:srgbClr val="eef4e8"/>
                    </a:solidFill>
                  </a:tcPr>
                </a:tc>
              </a:tr>
              <a:tr h="3142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9</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Higienista oral y auxiliar de Odontología</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Operativo</a:t>
                      </a: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5760">
                      <a:solidFill>
                        <a:srgbClr val="ffffff"/>
                      </a:solidFill>
                    </a:lnB>
                    <a:solidFill>
                      <a:srgbClr val="dbe9cd"/>
                    </a:solidFill>
                  </a:tcPr>
                </a:tc>
                <a:tc>
                  <a:txBody>
                    <a:bodyPr lIns="44280" rIns="4428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1</a:t>
                      </a:r>
                      <a:endParaRPr b="0" lang="en-US" sz="1800" spc="-1" strike="noStrike">
                        <a:solidFill>
                          <a:srgbClr val="000000"/>
                        </a:solidFill>
                        <a:latin typeface="Calibri"/>
                      </a:endParaRPr>
                    </a:p>
                  </a:txBody>
                  <a:tcPr anchor="ctr" marL="44280" marR="44280">
                    <a:lnL w="5760">
                      <a:solidFill>
                        <a:srgbClr val="000000"/>
                      </a:solidFill>
                    </a:lnL>
                    <a:lnR w="5760">
                      <a:solidFill>
                        <a:srgbClr val="ffffff"/>
                      </a:solidFill>
                    </a:lnR>
                    <a:lnT w="5760">
                      <a:solidFill>
                        <a:srgbClr val="000000"/>
                      </a:solidFill>
                    </a:lnT>
                    <a:lnB w="5760">
                      <a:solidFill>
                        <a:srgbClr val="000000"/>
                      </a:solidFill>
                    </a:lnB>
                    <a:solidFill>
                      <a:srgbClr val="dbe9cd"/>
                    </a:solidFill>
                  </a:tcPr>
                </a:tc>
              </a:tr>
              <a:tr h="3124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Narrow"/>
                          <a:ea typeface="Times New Roman"/>
                        </a:rPr>
                        <a:t>1</a:t>
                      </a:r>
                      <a:r>
                        <a:rPr b="1" lang="es-CO" sz="1800" spc="-1" strike="noStrike">
                          <a:solidFill>
                            <a:srgbClr val="ffffff"/>
                          </a:solidFill>
                          <a:latin typeface="Arial Narrow"/>
                          <a:ea typeface="Times New Roman"/>
                        </a:rPr>
                        <a:t>0</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elador por turnos </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5760">
                      <a:solidFill>
                        <a:srgbClr val="ffffff"/>
                      </a:solidFill>
                    </a:lnB>
                    <a:solidFill>
                      <a:srgbClr val="eef4e8"/>
                    </a:solidFill>
                  </a:tcPr>
                </a:tc>
                <a:tc>
                  <a:txBody>
                    <a:bodyPr lIns="44280" rIns="4428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1</a:t>
                      </a:r>
                      <a:endParaRPr b="0" lang="en-US" sz="1800" spc="-1" strike="noStrike">
                        <a:solidFill>
                          <a:srgbClr val="000000"/>
                        </a:solidFill>
                        <a:latin typeface="Calibri"/>
                      </a:endParaRPr>
                    </a:p>
                  </a:txBody>
                  <a:tcPr anchor="ctr" marL="44280" marR="44280">
                    <a:lnL w="5760">
                      <a:solidFill>
                        <a:srgbClr val="000000"/>
                      </a:solidFill>
                    </a:lnL>
                    <a:lnR w="5760">
                      <a:solidFill>
                        <a:srgbClr val="ffffff"/>
                      </a:solidFill>
                    </a:lnR>
                    <a:lnT w="5760">
                      <a:solidFill>
                        <a:srgbClr val="000000"/>
                      </a:solidFill>
                    </a:lnT>
                    <a:lnB w="5760">
                      <a:solidFill>
                        <a:srgbClr val="000000"/>
                      </a:solidFill>
                    </a:lnB>
                    <a:solidFill>
                      <a:srgbClr val="eef4e8"/>
                    </a:solidFill>
                  </a:tcPr>
                </a:tc>
              </a:tr>
              <a:tr h="31284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ffffff"/>
                      </a:solidFill>
                    </a:lnT>
                    <a:lnB w="5760">
                      <a:solidFill>
                        <a:srgbClr val="000000"/>
                      </a:solidFill>
                    </a:lnB>
                    <a:solidFill>
                      <a:srgbClr val="dbe9cd"/>
                    </a:solidFill>
                  </a:tcPr>
                </a:tc>
                <a:tc>
                  <a:txBody>
                    <a:bodyPr lIns="44280" rIns="442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dbe9cd"/>
                    </a:solidFill>
                  </a:tcPr>
                </a:tc>
              </a:tr>
              <a:tr h="31284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000000"/>
                      </a:solidFill>
                    </a:lnR>
                    <a:lnT w="5760">
                      <a:solidFill>
                        <a:srgbClr val="000000"/>
                      </a:solidFill>
                    </a:lnT>
                    <a:lnB w="5760">
                      <a:solidFill>
                        <a:srgbClr val="ffffff"/>
                      </a:solidFill>
                    </a:lnB>
                    <a:solidFill>
                      <a:srgbClr val="eef4e8"/>
                    </a:solidFill>
                  </a:tcPr>
                </a:tc>
                <a:tc>
                  <a:txBody>
                    <a:bodyPr lIns="44280" rIns="442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eef4e8"/>
                    </a:solidFill>
                  </a:tcPr>
                </a:tc>
              </a:tr>
              <a:tr h="627120">
                <a:tc gridSpan="3">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Trebuchet MS"/>
                        </a:rPr>
                        <a:t>TOTAL</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Trebuchet MS"/>
                        </a:rPr>
                        <a:t> </a:t>
                      </a: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Trebuchet MS"/>
                        </a:rPr>
                        <a:t>10</a:t>
                      </a:r>
                      <a:endParaRPr b="0" lang="en-US" sz="18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000000"/>
                      </a:solidFill>
                    </a:lnT>
                    <a:lnB w="5760">
                      <a:solidFill>
                        <a:srgbClr val="ffffff"/>
                      </a:solidFill>
                    </a:lnB>
                    <a:solidFill>
                      <a:srgbClr val="dbe9cd"/>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79280" y="304560"/>
            <a:ext cx="11638080" cy="679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1.GESTION DE SERVICIOS EN SALUD</a:t>
            </a:r>
            <a:endParaRPr b="0" lang="en-US" sz="3600" spc="-1" strike="noStrike">
              <a:solidFill>
                <a:srgbClr val="90c226"/>
              </a:solidFill>
              <a:latin typeface="Trebuchet MS"/>
            </a:endParaRPr>
          </a:p>
        </p:txBody>
      </p:sp>
      <p:pic>
        <p:nvPicPr>
          <p:cNvPr id="261" name="Marcador de contenido 2" descr=""/>
          <p:cNvPicPr/>
          <p:nvPr/>
        </p:nvPicPr>
        <p:blipFill>
          <a:blip r:embed="rId1"/>
          <a:stretch/>
        </p:blipFill>
        <p:spPr>
          <a:xfrm>
            <a:off x="128520" y="1316160"/>
            <a:ext cx="11801520" cy="523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51920" y="-360"/>
            <a:ext cx="11749320" cy="139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90c226"/>
                </a:solidFill>
                <a:latin typeface="Trebuchet MS"/>
              </a:rPr>
              <a:t>1.GESTION DE SERVICIOS EN SALUD</a:t>
            </a:r>
            <a:br>
              <a:rPr sz="3200"/>
            </a:br>
            <a:br>
              <a:rPr sz="3200"/>
            </a:br>
            <a:r>
              <a:rPr b="0" lang="es-ES" sz="2400" spc="-1" strike="noStrike">
                <a:solidFill>
                  <a:srgbClr val="90c226"/>
                </a:solidFill>
                <a:latin typeface="Trebuchet MS"/>
              </a:rPr>
              <a:t>DESARROLLO DEL PLAN DE INTERVENCIONES EN SALUD PUBLICA-PIC</a:t>
            </a:r>
            <a:endParaRPr b="0" lang="en-US" sz="2400" spc="-1" strike="noStrike">
              <a:solidFill>
                <a:srgbClr val="90c226"/>
              </a:solidFill>
              <a:latin typeface="Trebuchet MS"/>
            </a:endParaRPr>
          </a:p>
        </p:txBody>
      </p:sp>
      <p:sp>
        <p:nvSpPr>
          <p:cNvPr id="263" name=""/>
          <p:cNvSpPr txBox="1"/>
          <p:nvPr/>
        </p:nvSpPr>
        <p:spPr>
          <a:xfrm>
            <a:off x="0" y="1536480"/>
            <a:ext cx="6019920" cy="505764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404040"/>
                </a:solidFill>
                <a:latin typeface="Trebuchet MS"/>
              </a:rPr>
              <a:t>PROPOSITO</a:t>
            </a:r>
            <a:endParaRPr b="0" lang="en-US" sz="1700" spc="-1" strike="noStrike">
              <a:solidFill>
                <a:srgbClr val="404040"/>
              </a:solidFill>
              <a:latin typeface="Trebuchet MS"/>
            </a:endParaRPr>
          </a:p>
          <a:p>
            <a:pPr>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Mejorar las condiciones de vida que modifican la situación de salud y disminuyen la carga de enfermedad.</a:t>
            </a:r>
            <a:endParaRPr b="0" lang="en-US" sz="1900" spc="-1" strike="noStrike">
              <a:solidFill>
                <a:srgbClr val="404040"/>
              </a:solidFill>
              <a:latin typeface="Trebuchet MS"/>
            </a:endParaRPr>
          </a:p>
          <a:p>
            <a:pPr>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Generar espacios que contribuyan al desarrollo de oportunidades y capacidades de la población que permitan el disfrute de la vida y el despliegue de potencialidades individuales y colectivas para el fortalecimiento de la salud mental.</a:t>
            </a:r>
            <a:endParaRPr b="0" lang="en-US" sz="1900" spc="-1" strike="noStrike">
              <a:solidFill>
                <a:srgbClr val="404040"/>
              </a:solidFill>
              <a:latin typeface="Trebuchet MS"/>
            </a:endParaRPr>
          </a:p>
          <a:p>
            <a:pPr algn="just">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Difundir las políticas y acciones transectoriales, sectoriales y comunitaria que permitan garantizar el derecho a la alimentación sana con equidad en las diferentes etapas del ciclo de vida.</a:t>
            </a:r>
            <a:endParaRPr b="0" lang="en-US" sz="1900" spc="-1" strike="noStrike">
              <a:solidFill>
                <a:srgbClr val="404040"/>
              </a:solidFill>
              <a:latin typeface="Trebuchet MS"/>
            </a:endParaRPr>
          </a:p>
          <a:p>
            <a:pPr algn="just">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Prevenir la propagación del Covid-19 en la población Alejandrina, mediante campañas radiales, TV comunitaria, volantes y por medio de redes sociales.</a:t>
            </a:r>
            <a:endParaRPr b="0" lang="en-US" sz="1900" spc="-1" strike="noStrike">
              <a:solidFill>
                <a:srgbClr val="404040"/>
              </a:solidFill>
              <a:latin typeface="Trebuchet MS"/>
            </a:endParaRPr>
          </a:p>
        </p:txBody>
      </p:sp>
      <p:sp>
        <p:nvSpPr>
          <p:cNvPr id="264" name=""/>
          <p:cNvSpPr txBox="1"/>
          <p:nvPr/>
        </p:nvSpPr>
        <p:spPr>
          <a:xfrm>
            <a:off x="6171840" y="1391760"/>
            <a:ext cx="5181480" cy="52023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404040"/>
                </a:solidFill>
                <a:latin typeface="Trebuchet MS"/>
              </a:rPr>
              <a:t>OBJETIVO CONTRACTUAL</a:t>
            </a:r>
            <a:endParaRPr b="0" lang="en-US" sz="17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a:t>
            </a:r>
            <a:r>
              <a:rPr b="0" lang="es-ES" sz="1900" spc="-1" strike="noStrike">
                <a:solidFill>
                  <a:srgbClr val="404040"/>
                </a:solidFill>
                <a:latin typeface="Trebuchet MS"/>
              </a:rPr>
              <a:t>EJECUCION DEL PLAN DE INTERVENCIONES COLECTIVAS EN EL MARCO DEL ESTADO DE EMERGENCIA SANITARIA POR CAUSA DEL CORONAVIRUS COVID_x0002_19, SUSCRITO ENTRE EL MUNICIPIO DE ALEJANDRIA Y LA ESE HOSPITAL PBRO LUIS FELIPE ARBELAEZ PARA LA VIGENCIA 2020 </a:t>
            </a:r>
            <a:r>
              <a:rPr b="0" lang="es-ES" sz="2200" spc="-1" strike="noStrike">
                <a:solidFill>
                  <a:srgbClr val="404040"/>
                </a:solidFill>
                <a:latin typeface="Trebuchet MS"/>
              </a:rPr>
              <a:t>“</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31920" y="365040"/>
            <a:ext cx="11555280" cy="1325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1.1 GESTION DE SERVICIOS EN SALUD</a:t>
            </a:r>
            <a:br>
              <a:rPr sz="3600"/>
            </a:br>
            <a:r>
              <a:rPr b="0" lang="es-ES" sz="3600" spc="-1" strike="noStrike">
                <a:solidFill>
                  <a:srgbClr val="90c226"/>
                </a:solidFill>
                <a:latin typeface="Trebuchet MS"/>
              </a:rPr>
              <a:t>Desarrollo del plan  de intervenciones en salud pubica</a:t>
            </a:r>
            <a:endParaRPr b="0" lang="en-US" sz="3600" spc="-1" strike="noStrike">
              <a:solidFill>
                <a:srgbClr val="90c226"/>
              </a:solidFill>
              <a:latin typeface="Trebuchet MS"/>
            </a:endParaRPr>
          </a:p>
        </p:txBody>
      </p:sp>
      <p:sp>
        <p:nvSpPr>
          <p:cNvPr id="266" name=""/>
          <p:cNvSpPr txBox="1"/>
          <p:nvPr/>
        </p:nvSpPr>
        <p:spPr>
          <a:xfrm>
            <a:off x="331920" y="1825200"/>
            <a:ext cx="11021760" cy="4667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404040"/>
                </a:solidFill>
                <a:latin typeface="Trebuchet MS"/>
              </a:rPr>
              <a:t>TALENTO HUMANO PARA EL DESARROLLO DEL PIC-2021</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404040"/>
                </a:solidFill>
                <a:latin typeface="Trebuchet MS"/>
              </a:rPr>
              <a:t> </a:t>
            </a:r>
            <a:r>
              <a:rPr b="0" lang="es-ES" sz="2800" spc="-1" strike="noStrike">
                <a:solidFill>
                  <a:srgbClr val="404040"/>
                </a:solidFill>
                <a:latin typeface="Trebuchet MS"/>
              </a:rPr>
              <a:t>Equipo de salud Hospital (Enfermera profesional –Auxiliares de enfermería-Médicos- Odontóloga-Gerente, Auxiliar administrativa, conductor)</a:t>
            </a:r>
            <a:endParaRPr b="0" lang="en-US" sz="2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404040"/>
                </a:solidFill>
                <a:latin typeface="Trebuchet MS"/>
              </a:rPr>
              <a:t> </a:t>
            </a:r>
            <a:r>
              <a:rPr b="0" lang="es-ES" sz="2800" spc="-1" strike="noStrike">
                <a:solidFill>
                  <a:srgbClr val="404040"/>
                </a:solidFill>
                <a:latin typeface="Trebuchet MS"/>
              </a:rPr>
              <a:t>1-auxiliar de enfermería</a:t>
            </a:r>
            <a:endParaRPr b="0" lang="en-US" sz="2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404040"/>
                </a:solidFill>
                <a:latin typeface="Trebuchet MS"/>
              </a:rPr>
              <a:t>1-Trabajador social</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63160" y="364680"/>
            <a:ext cx="11541240" cy="854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Desarrollo del plan de intervenciones en salud publica</a:t>
            </a:r>
            <a:endParaRPr b="0" lang="en-US" sz="3600" spc="-1" strike="noStrike">
              <a:solidFill>
                <a:srgbClr val="90c226"/>
              </a:solidFill>
              <a:latin typeface="Trebuchet MS"/>
            </a:endParaRPr>
          </a:p>
        </p:txBody>
      </p:sp>
      <p:sp>
        <p:nvSpPr>
          <p:cNvPr id="268" name=""/>
          <p:cNvSpPr txBox="1"/>
          <p:nvPr/>
        </p:nvSpPr>
        <p:spPr>
          <a:xfrm>
            <a:off x="-360" y="1801440"/>
            <a:ext cx="12192120" cy="5056200"/>
          </a:xfrm>
          <a:prstGeom prst="rect">
            <a:avLst/>
          </a:prstGeom>
          <a:noFill/>
          <a:ln w="0">
            <a:noFill/>
          </a:ln>
        </p:spPr>
        <p:txBody>
          <a:bodyPr anchor="t">
            <a:normAutofit fontScale="86000"/>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404040"/>
                </a:solidFill>
                <a:latin typeface="Trebuchet MS"/>
              </a:rPr>
              <a:t>DIMENSIONES DESARROLLADAS EN EL PLAN DE INTERVENCIONES COLECTIVAS</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1.  salud ambiental</a:t>
            </a:r>
            <a:r>
              <a:rPr b="0" lang="es-CO" sz="2400" spc="-1" strike="noStrike">
                <a:solidFill>
                  <a:srgbClr val="404040"/>
                </a:solidFill>
                <a:latin typeface="Trebuchet MS"/>
              </a:rPr>
              <a:t>	</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2.  Vida saludable y condiciones no transmisibles. </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3. Convivencia social y salud mental</a:t>
            </a:r>
            <a:r>
              <a:rPr b="0" lang="es-CO" sz="2400" spc="-1" strike="noStrike">
                <a:solidFill>
                  <a:srgbClr val="404040"/>
                </a:solidFill>
                <a:latin typeface="Trebuchet MS"/>
              </a:rPr>
              <a:t>	</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4. Seguridad alimentaria y nutricional</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404040"/>
                </a:solidFill>
                <a:latin typeface="Trebuchet MS"/>
              </a:rPr>
              <a:t>Dimensión 5. Sexualidad - Derechos Sexuales y Reproductivos</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6.  Vida Saludable libre de enfermedades Transmisibles</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7.  Salud publica en Emergencias y Desastres</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8. Ámbito laboral</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transversal 1.  Gestión diferencial de población vulnerable</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404040"/>
                </a:solidFill>
                <a:latin typeface="Trebuchet MS"/>
              </a:rPr>
              <a:t>Dimensión transversal, Fortalecimiento de la autoridad sanitaria</a:t>
            </a:r>
            <a:endParaRPr b="0" lang="en-US" sz="2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600" spc="-1" strike="noStrike">
                <a:solidFill>
                  <a:srgbClr val="404040"/>
                </a:solidFill>
                <a:latin typeface="Trebuchet MS"/>
              </a:rPr>
              <a:t>2</a:t>
            </a:r>
            <a:endParaRPr b="0" lang="en-US" sz="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a:p>
            <a:pPr>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7360" y="365040"/>
            <a:ext cx="10966320" cy="868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Actividades realizadas pic</a:t>
            </a:r>
            <a:endParaRPr b="0" lang="en-US" sz="3600" spc="-1" strike="noStrike">
              <a:solidFill>
                <a:srgbClr val="90c226"/>
              </a:solidFill>
              <a:latin typeface="Trebuchet MS"/>
            </a:endParaRPr>
          </a:p>
        </p:txBody>
      </p:sp>
      <p:sp>
        <p:nvSpPr>
          <p:cNvPr id="270" name=""/>
          <p:cNvSpPr txBox="1"/>
          <p:nvPr/>
        </p:nvSpPr>
        <p:spPr>
          <a:xfrm>
            <a:off x="290160" y="1233360"/>
            <a:ext cx="11063160" cy="5375520"/>
          </a:xfrm>
          <a:prstGeom prst="rect">
            <a:avLst/>
          </a:prstGeom>
          <a:noFill/>
          <a:ln w="0">
            <a:noFill/>
          </a:ln>
        </p:spPr>
        <p:txBody>
          <a:bodyPr anchor="t">
            <a:normAutofit/>
          </a:bodyPr>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Difundir en las familias las recomendaciones a tener en cuenta para mantener limpio el entorno de Ia vivienda según instructivos del MPS en el marco de Ia contingencia a causa del COVID.</a:t>
            </a:r>
            <a:endParaRPr b="0" lang="en-US" sz="2200" spc="-1" strike="noStrike">
              <a:solidFill>
                <a:srgbClr val="404040"/>
              </a:solidFill>
              <a:latin typeface="Trebuchet MS"/>
            </a:endParaRPr>
          </a:p>
          <a:p>
            <a:pPr marL="343080" indent="-343080" algn="just">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Programas radiales sobre los efectos en las personas, familias y comunidad (miedo de enfermarse o morir, perder dinero u objetos materiales, a ser socialmente excluido, a revivir una enfermedad previa, y no acercarse a servicios de salud por riesgos de enfermarse) y desenlaces en salud (comportamiento de riesgos de consumo de alcohol, tabaco u otras sustancias psicoactivas, conflictos familiares que generen los diferentes tipos de violencias, problemas y trastornos mentales y conducta suicida) debido a Ia pandemia </a:t>
            </a:r>
            <a:endParaRPr b="0" lang="en-US" sz="2200" spc="-1" strike="noStrike">
              <a:solidFill>
                <a:srgbClr val="404040"/>
              </a:solidFill>
              <a:latin typeface="Trebuchet MS"/>
            </a:endParaRPr>
          </a:p>
          <a:p>
            <a:pPr marL="343080" indent="-343080" algn="just">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Campañas radiales educativas alusivas a la promoción de la salud y prevención de la enfermedad.</a:t>
            </a:r>
            <a:endParaRPr b="0" lang="en-US" sz="2200" spc="-1" strike="noStrike">
              <a:solidFill>
                <a:srgbClr val="404040"/>
              </a:solidFill>
              <a:latin typeface="Trebuchet MS"/>
            </a:endParaRPr>
          </a:p>
          <a:p>
            <a:pPr marL="343080" indent="-343080" algn="just">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Visitas casa a casa informando a la familias la importancia de los de los cuidados y del autocuidado para no contagiarse y propagar el Covid -19</a:t>
            </a:r>
            <a:endParaRPr b="0" lang="en-US" sz="22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22400" y="487440"/>
            <a:ext cx="11734560" cy="1203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90c226"/>
                </a:solidFill>
                <a:latin typeface="Trebuchet MS"/>
              </a:rPr>
              <a:t>1.GESTION DE SERVICIOS EN SALUD</a:t>
            </a:r>
            <a:br>
              <a:rPr sz="3200"/>
            </a:br>
            <a:r>
              <a:rPr b="0" lang="es-ES" sz="2900" spc="-1" strike="noStrike">
                <a:solidFill>
                  <a:srgbClr val="90c226"/>
                </a:solidFill>
                <a:latin typeface="Trebuchet MS"/>
              </a:rPr>
              <a:t>DESARROLLO DEL PROGRAMA DE ATENCION PRIMARIA EN SALUD-APS</a:t>
            </a:r>
            <a:br>
              <a:rPr sz="3200"/>
            </a:br>
            <a:endParaRPr b="0" lang="en-US" sz="2900" spc="-1" strike="noStrike">
              <a:solidFill>
                <a:srgbClr val="90c226"/>
              </a:solidFill>
              <a:latin typeface="Trebuchet MS"/>
            </a:endParaRPr>
          </a:p>
        </p:txBody>
      </p:sp>
      <p:sp>
        <p:nvSpPr>
          <p:cNvPr id="272" name=""/>
          <p:cNvSpPr txBox="1"/>
          <p:nvPr/>
        </p:nvSpPr>
        <p:spPr>
          <a:xfrm>
            <a:off x="601560" y="1279080"/>
            <a:ext cx="5570640" cy="53499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404040"/>
                </a:solidFill>
                <a:latin typeface="Trebuchet MS"/>
              </a:rPr>
              <a:t>Propósito</a:t>
            </a:r>
            <a:endParaRPr b="0" lang="en-US" sz="1700" spc="-1" strike="noStrike">
              <a:solidFill>
                <a:srgbClr val="404040"/>
              </a:solidFill>
              <a:latin typeface="Trebuchet MS"/>
            </a:endParaRPr>
          </a:p>
          <a:p>
            <a:pPr algn="just">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404040"/>
                </a:solidFill>
                <a:latin typeface="Trebuchet MS"/>
              </a:rPr>
              <a:t>Caracterizar la población laboral informal del municipio priorizando el sector Económico más prevalente en el territorio,.</a:t>
            </a:r>
            <a:endParaRPr b="0" lang="en-US" sz="1400" spc="-1" strike="noStrike">
              <a:solidFill>
                <a:srgbClr val="404040"/>
              </a:solidFill>
              <a:latin typeface="Trebuchet MS"/>
            </a:endParaRPr>
          </a:p>
          <a:p>
            <a:pPr algn="just">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404040"/>
                </a:solidFill>
                <a:latin typeface="Trebuchet MS"/>
              </a:rPr>
              <a:t>Realizar campañas y/o estrategias de Información, Educación y capacitación en las que se promueva el autocuidado, las medidas de bioseguridad básicas y otras actividades enfocadas en la prevención de enfermedades laborales y accidentes de trabajo.</a:t>
            </a:r>
            <a:endParaRPr b="0" lang="en-US" sz="1400" spc="-1" strike="noStrike">
              <a:solidFill>
                <a:srgbClr val="404040"/>
              </a:solidFill>
              <a:latin typeface="Trebuchet MS"/>
            </a:endParaRPr>
          </a:p>
          <a:p>
            <a:pPr algn="just">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404040"/>
                </a:solidFill>
                <a:latin typeface="Trebuchet MS"/>
              </a:rPr>
              <a:t>Realizar un mapeo del territorio asignado o priorizado, en el cual deberá tener ubicada cada familia (identificarlas con el nombre del cabeza de familia), con datos de salud de los miembros de la familia, ej. Hipertensos y diabéticos, personas con leishmaniosis, u otros eventos de interés en salud pública. </a:t>
            </a:r>
            <a:endParaRPr b="0" lang="en-US" sz="1400" spc="-1" strike="noStrike">
              <a:solidFill>
                <a:srgbClr val="404040"/>
              </a:solidFill>
              <a:latin typeface="Trebuchet MS"/>
            </a:endParaRPr>
          </a:p>
          <a:p>
            <a:pPr algn="just">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404040"/>
                </a:solidFill>
                <a:latin typeface="Trebuchet MS"/>
              </a:rPr>
              <a:t>Desarrollar acciones informativas con las familias en temas de promoción de la salud y prevención de la enfermedad para mitigar los riesgos en salud, a través de la Atención Primaria en Salud</a:t>
            </a:r>
            <a:endParaRPr b="0" lang="en-US" sz="1400" spc="-1" strike="noStrike">
              <a:solidFill>
                <a:srgbClr val="404040"/>
              </a:solidFill>
              <a:latin typeface="Trebuchet MS"/>
            </a:endParaRPr>
          </a:p>
          <a:p>
            <a:pPr algn="just">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404040"/>
                </a:solidFill>
                <a:latin typeface="Trebuchet MS"/>
              </a:rPr>
              <a:t>Establecer actividades educativas, como talleres, charlas  donde se desarrollan temas relacionados con las necesidades que se encuentren en la comunidad, tanto individuales como colectivos con  énfasis en la familia y la comunidad.</a:t>
            </a:r>
            <a:endParaRPr b="0" lang="en-US" sz="1400" spc="-1" strike="noStrike">
              <a:solidFill>
                <a:srgbClr val="404040"/>
              </a:solidFill>
              <a:latin typeface="Trebuchet MS"/>
            </a:endParaRPr>
          </a:p>
        </p:txBody>
      </p:sp>
      <p:sp>
        <p:nvSpPr>
          <p:cNvPr id="273" name=""/>
          <p:cNvSpPr txBox="1"/>
          <p:nvPr/>
        </p:nvSpPr>
        <p:spPr>
          <a:xfrm>
            <a:off x="6172200" y="1463760"/>
            <a:ext cx="6019920" cy="4726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404040"/>
                </a:solidFill>
                <a:latin typeface="Trebuchet MS"/>
              </a:rPr>
              <a:t>Objeto; </a:t>
            </a:r>
            <a:r>
              <a:rPr b="0" lang="es-CO" sz="2400" spc="-1" strike="noStrike">
                <a:solidFill>
                  <a:srgbClr val="404040"/>
                </a:solidFill>
                <a:latin typeface="Trebuchet MS"/>
              </a:rPr>
              <a:t>"EJECUCION DE ACTIVIDADES PARA CONTRIBUIR EN FORTALECIMIENTO DE LA ESTRATEGIA DE ATENCION PRIMARIA EN SALUD- APS, EN CUMPLIMIENTO DE LARESOLUCION DEPARTAMENTAL N° S2021060074774, EN EL MUNICIPIO DE ALEJANDRIA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523880" y="244440"/>
            <a:ext cx="9144000" cy="212400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400" spc="-1" strike="noStrike">
                <a:solidFill>
                  <a:srgbClr val="90c226"/>
                </a:solidFill>
                <a:latin typeface="Trebuchet MS"/>
              </a:rPr>
              <a:t>ESE HOSPITAL PBRO LUIS FELIPE ARBELAEZ</a:t>
            </a:r>
            <a:endParaRPr b="0" lang="en-US" sz="5400" spc="-1" strike="noStrike">
              <a:solidFill>
                <a:srgbClr val="90c226"/>
              </a:solidFill>
              <a:latin typeface="Trebuchet MS"/>
            </a:endParaRPr>
          </a:p>
        </p:txBody>
      </p:sp>
      <p:sp>
        <p:nvSpPr>
          <p:cNvPr id="222" name="PlaceHolder 2"/>
          <p:cNvSpPr>
            <a:spLocks noGrp="1"/>
          </p:cNvSpPr>
          <p:nvPr>
            <p:ph type="subTitle"/>
          </p:nvPr>
        </p:nvSpPr>
        <p:spPr>
          <a:xfrm>
            <a:off x="468000" y="1233000"/>
            <a:ext cx="11248920" cy="538020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7f7f7f"/>
                </a:solidFill>
                <a:latin typeface="Trebuchet MS"/>
              </a:rPr>
              <a:t>Rendición Publica de cuentas</a:t>
            </a:r>
            <a:endParaRPr b="0" lang="en-US" sz="44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7f7f7f"/>
                </a:solidFill>
                <a:latin typeface="Trebuchet MS"/>
              </a:rPr>
              <a:t>2021</a:t>
            </a:r>
            <a:endParaRPr b="0" lang="en-US" sz="44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7f7f7f"/>
                </a:solidFill>
                <a:latin typeface="Trebuchet MS"/>
              </a:rPr>
              <a:t>DIVER ARLEY LOPERA CASTAÑO</a:t>
            </a:r>
            <a:endParaRPr b="0" lang="en-US" sz="44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7f7f7f"/>
                </a:solidFill>
                <a:latin typeface="Trebuchet MS"/>
              </a:rPr>
              <a:t>GERENTE</a:t>
            </a:r>
            <a:endParaRPr b="0" lang="en-US" sz="4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31920" y="365040"/>
            <a:ext cx="11555280" cy="1325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1.1 GESTION DE SERVICIOS EN SALUD</a:t>
            </a:r>
            <a:br>
              <a:rPr sz="3600"/>
            </a:br>
            <a:r>
              <a:rPr b="0" lang="es-ES" sz="3600" spc="-1" strike="noStrike">
                <a:solidFill>
                  <a:srgbClr val="90c226"/>
                </a:solidFill>
                <a:latin typeface="Trebuchet MS"/>
              </a:rPr>
              <a:t>Desarrollo del plan de atención primaria en salud-aps</a:t>
            </a:r>
            <a:endParaRPr b="0" lang="en-US" sz="3600" spc="-1" strike="noStrike">
              <a:solidFill>
                <a:srgbClr val="90c226"/>
              </a:solidFill>
              <a:latin typeface="Trebuchet MS"/>
            </a:endParaRPr>
          </a:p>
        </p:txBody>
      </p:sp>
      <p:sp>
        <p:nvSpPr>
          <p:cNvPr id="275" name=""/>
          <p:cNvSpPr txBox="1"/>
          <p:nvPr/>
        </p:nvSpPr>
        <p:spPr>
          <a:xfrm>
            <a:off x="331560" y="1523520"/>
            <a:ext cx="11449080" cy="49690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TALENTO HUMANO PARA DESARROLLAR LA ESTRATEGIA DE ATENCION PRIMARIA EN SALUD-APS</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 </a:t>
            </a:r>
            <a:r>
              <a:rPr b="0" lang="es-ES" sz="1800" spc="-1" strike="noStrike">
                <a:solidFill>
                  <a:srgbClr val="404040"/>
                </a:solidFill>
                <a:latin typeface="Trebuchet MS"/>
              </a:rPr>
              <a:t>Equipo de salud Hospital (Enfermera profesional--Medicos- Odontóloga-Higienista Oral –Gerente. Conductor, auxiliar administrativa)</a:t>
            </a:r>
            <a:endParaRPr b="0" lang="en-US" sz="1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 </a:t>
            </a:r>
            <a:r>
              <a:rPr b="0" lang="es-ES" sz="1800" spc="-1" strike="noStrike">
                <a:solidFill>
                  <a:srgbClr val="404040"/>
                </a:solidFill>
                <a:latin typeface="Trebuchet MS"/>
              </a:rPr>
              <a:t>1-auxiliar de enfermería</a:t>
            </a:r>
            <a:endParaRPr b="0" lang="en-US" sz="1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1-Tecnologa en Salud Publica</a:t>
            </a:r>
            <a:endParaRPr b="0" lang="en-US" sz="1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1.sicologa</a:t>
            </a:r>
            <a:endParaRPr b="0" lang="en-US" sz="1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404040"/>
                </a:solidFill>
                <a:latin typeface="Trebuchet MS"/>
              </a:rPr>
              <a:t>1.Auxiliar de salud publica</a:t>
            </a:r>
            <a:endParaRPr b="0" lang="en-US" sz="1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404040"/>
                </a:solidFill>
                <a:latin typeface="Trebuchet MS"/>
              </a:rPr>
              <a:t>1. pedagogía</a:t>
            </a:r>
            <a:endParaRPr b="0" lang="en-US" sz="1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404040"/>
                </a:solidFill>
                <a:latin typeface="Trebuchet MS"/>
              </a:rPr>
              <a:t>1.Digitadora</a:t>
            </a:r>
            <a:endParaRPr b="0" lang="en-US" sz="1800" spc="-1" strike="noStrike">
              <a:solidFill>
                <a:srgbClr val="404040"/>
              </a:solidFill>
              <a:latin typeface="Trebuchet MS"/>
            </a:endParaRPr>
          </a:p>
          <a:p>
            <a:pPr>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7360" y="365040"/>
            <a:ext cx="10966320" cy="868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Actividades realizadas APS</a:t>
            </a:r>
            <a:endParaRPr b="0" lang="en-US" sz="3600" spc="-1" strike="noStrike">
              <a:solidFill>
                <a:srgbClr val="90c226"/>
              </a:solidFill>
              <a:latin typeface="Trebuchet MS"/>
            </a:endParaRPr>
          </a:p>
        </p:txBody>
      </p:sp>
      <p:sp>
        <p:nvSpPr>
          <p:cNvPr id="277" name=""/>
          <p:cNvSpPr txBox="1"/>
          <p:nvPr/>
        </p:nvSpPr>
        <p:spPr>
          <a:xfrm>
            <a:off x="290160" y="1233360"/>
            <a:ext cx="11063160" cy="5375520"/>
          </a:xfrm>
          <a:prstGeom prst="rect">
            <a:avLst/>
          </a:prstGeom>
          <a:noFill/>
          <a:ln w="0">
            <a:noFill/>
          </a:ln>
        </p:spPr>
        <p:txBody>
          <a:bodyPr anchor="t">
            <a:normAutofit/>
          </a:bodyPr>
          <a:p>
            <a:pPr marL="343080" indent="-343080" algn="just">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Durante el mes de Noviembre y diciembre se hicieron 40  visitas a familias ubicadas en  veredas como el Popo, San Lorenzo, El Respaldo, la Inmaculada, también  en la zona Urbana en sectores como el barrio centenario, carrera Santander, calle la cruz, calle Concepción, carrera Córdoba calle Miraflores, Urbanización Mirador de Nare.  Se caracterizaron se caracterizaron  4 familia y se hicieron 36 seguimientos y actualizaciones de la ficha o historia familiar.</a:t>
            </a:r>
            <a:endParaRPr b="0" lang="en-US" sz="2200" spc="-1" strike="noStrike">
              <a:solidFill>
                <a:srgbClr val="404040"/>
              </a:solidFill>
              <a:latin typeface="Trebuchet MS"/>
            </a:endParaRPr>
          </a:p>
          <a:p>
            <a:pPr marL="343080" indent="-343080" algn="just">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Orientación en salud a la población sujeto de atención: se realizan  dos jornadas en salud durante la ejecución de esta resolución   el 28 de noviembre del 2020 se realiza  “jornada de salud toma de muestras COVID 19” y el 12 de Diciembre  se realiza jornada de salud toma de muestras VIH.Ambas con buena aceptación comunitaria.</a:t>
            </a:r>
            <a:endParaRPr b="0" lang="en-US" sz="2200" spc="-1" strike="noStrike">
              <a:solidFill>
                <a:srgbClr val="404040"/>
              </a:solidFill>
              <a:latin typeface="Trebuchet MS"/>
            </a:endParaRPr>
          </a:p>
          <a:p>
            <a:pPr marL="343080" indent="-343080" algn="just">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Campañas en contra del uso de la Pólvora.</a:t>
            </a:r>
            <a:endParaRPr b="0" lang="en-US" sz="2200" spc="-1" strike="noStrike">
              <a:solidFill>
                <a:srgbClr val="404040"/>
              </a:solidFill>
              <a:latin typeface="Trebuchet MS"/>
            </a:endParaRPr>
          </a:p>
          <a:p>
            <a:pPr marL="343080" indent="-343080" algn="just">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Campaña de sensibilización sobre la importancia de acudir a la toma de muestras de pruebas COVID 19.</a:t>
            </a:r>
            <a:endParaRPr b="0" lang="en-US" sz="2200" spc="-1" strike="noStrike">
              <a:solidFill>
                <a:srgbClr val="404040"/>
              </a:solidFill>
              <a:latin typeface="Trebuchet MS"/>
            </a:endParaRPr>
          </a:p>
          <a:p>
            <a:pPr marL="343080" indent="-343080" algn="just">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404040"/>
                </a:solidFill>
                <a:latin typeface="Trebuchet MS"/>
              </a:rPr>
              <a:t>Taller Jóvenes: Prevención conductas de riesgo (consumo de sustancias psicoactivas)</a:t>
            </a:r>
            <a:endParaRPr b="0" lang="en-US" sz="2200" spc="-1" strike="noStrike">
              <a:solidFill>
                <a:srgbClr val="404040"/>
              </a:solidFill>
              <a:latin typeface="Trebuchet MS"/>
            </a:endParaRPr>
          </a:p>
          <a:p>
            <a:pPr marL="343080" indent="-343080" algn="just">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a:p>
            <a:pPr marL="343080" indent="-343080">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96720" y="364680"/>
            <a:ext cx="10956960" cy="870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90c226"/>
                </a:solidFill>
                <a:latin typeface="Trebuchet MS"/>
              </a:rPr>
              <a:t>Actividades realizadas APS</a:t>
            </a:r>
            <a:endParaRPr b="0" lang="en-US" sz="3600" spc="-1" strike="noStrike">
              <a:solidFill>
                <a:srgbClr val="90c226"/>
              </a:solidFill>
              <a:latin typeface="Trebuchet MS"/>
            </a:endParaRPr>
          </a:p>
        </p:txBody>
      </p:sp>
      <p:sp>
        <p:nvSpPr>
          <p:cNvPr id="279" name=""/>
          <p:cNvSpPr txBox="1"/>
          <p:nvPr/>
        </p:nvSpPr>
        <p:spPr>
          <a:xfrm>
            <a:off x="178920" y="1417680"/>
            <a:ext cx="11860200" cy="5075280"/>
          </a:xfrm>
          <a:prstGeom prst="rect">
            <a:avLst/>
          </a:prstGeom>
          <a:noFill/>
          <a:ln w="0">
            <a:noFill/>
          </a:ln>
        </p:spPr>
        <p:txBody>
          <a:bodyPr anchor="t">
            <a:normAutofit/>
          </a:bodyPr>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Capacitación Docentes: Abordaje integral desde el enfoque psicosocial a las conductas de riesgo de los niños, niñas, adolescentes y jóvenes de la Institución Educativa Procesa Delgad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Capacitación lideres Asocomunal: Control social “Participación social y comunitari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Movilización en contra del uso de pólvor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Campaña de sensibilización sobre la importancia de acudir a la toma de muestras de pruebas COVID 19.</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Taller Jóvenes: Prevención conductas de riesgo (consumo de sustancias psicoactiva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9880" y="364680"/>
            <a:ext cx="10515600" cy="965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es-CO" sz="3200" spc="-1" strike="noStrike">
                <a:solidFill>
                  <a:srgbClr val="90c226"/>
                </a:solidFill>
                <a:latin typeface="Trebuchet MS"/>
              </a:rPr>
              <a:t>1.1</a:t>
            </a:r>
            <a:r>
              <a:rPr b="0" lang="es-CO" sz="3200" spc="-1" strike="noStrike">
                <a:solidFill>
                  <a:srgbClr val="90c226"/>
                </a:solidFill>
                <a:latin typeface="Trebuchet MS"/>
              </a:rPr>
              <a:t>	</a:t>
            </a:r>
            <a:r>
              <a:rPr b="0" lang="es-CO" sz="3200" spc="-1" strike="noStrike">
                <a:solidFill>
                  <a:srgbClr val="90c226"/>
                </a:solidFill>
                <a:latin typeface="Trebuchet MS"/>
              </a:rPr>
              <a:t>GESTION DE TALENTO HUMANO</a:t>
            </a:r>
            <a:br>
              <a:rPr sz="3200"/>
            </a:br>
            <a:endParaRPr b="0" lang="en-US" sz="3200" spc="-1" strike="noStrike">
              <a:solidFill>
                <a:srgbClr val="90c226"/>
              </a:solidFill>
              <a:latin typeface="Trebuchet MS"/>
            </a:endParaRPr>
          </a:p>
        </p:txBody>
      </p:sp>
      <p:sp>
        <p:nvSpPr>
          <p:cNvPr id="281" name="PlaceHolder 2"/>
          <p:cNvSpPr>
            <a:spLocks noGrp="1"/>
          </p:cNvSpPr>
          <p:nvPr>
            <p:ph/>
          </p:nvPr>
        </p:nvSpPr>
        <p:spPr>
          <a:xfrm>
            <a:off x="996840" y="1329840"/>
            <a:ext cx="10358640" cy="965160"/>
          </a:xfrm>
          <a:prstGeom prst="rect">
            <a:avLst/>
          </a:prstGeom>
          <a:noFill/>
          <a:ln w="0">
            <a:noFill/>
          </a:ln>
        </p:spPr>
        <p:txBody>
          <a:bodyPr anchor="b">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404040"/>
                </a:solidFill>
                <a:latin typeface="Trebuchet MS"/>
              </a:rPr>
              <a:t>Objetivo</a:t>
            </a:r>
            <a:endParaRPr b="0" lang="en-US" sz="3200" spc="-1" strike="noStrike">
              <a:solidFill>
                <a:srgbClr val="404040"/>
              </a:solidFill>
              <a:latin typeface="Trebuchet MS"/>
            </a:endParaRPr>
          </a:p>
        </p:txBody>
      </p:sp>
      <p:sp>
        <p:nvSpPr>
          <p:cNvPr id="282" name=""/>
          <p:cNvSpPr txBox="1"/>
          <p:nvPr/>
        </p:nvSpPr>
        <p:spPr>
          <a:xfrm>
            <a:off x="839520" y="2460240"/>
            <a:ext cx="8434440" cy="33037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Trebuchet MS"/>
              </a:rPr>
              <a:t>Elevar la competitividad Institucional mediante el mejoramiento de las competencias laborales, el bienestar del personal y la optimización de la infraestructura y los recursos tecnológicos necesarios en los próximos cuatro años.</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25280" y="193680"/>
          <a:ext cx="4778640" cy="6059520"/>
        </p:xfrm>
        <a:graphic>
          <a:graphicData uri="http://schemas.openxmlformats.org/drawingml/2006/table">
            <a:tbl>
              <a:tblPr/>
              <a:tblGrid>
                <a:gridCol w="1046160"/>
                <a:gridCol w="2835360"/>
                <a:gridCol w="897120"/>
              </a:tblGrid>
              <a:tr h="1235160">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CÓDIGO según Dec. 785 de 2005</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Denominación del empleo según Dec. 785 de 2005</a:t>
                      </a:r>
                      <a:endParaRPr b="0" lang="en-US" sz="12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No. de cargos</a:t>
                      </a:r>
                      <a:endParaRPr b="0" lang="en-US" sz="12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218880">
                <a:tc gridSpan="3">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  </a:t>
                      </a:r>
                      <a:r>
                        <a:rPr b="1" lang="es-CO" sz="1200" spc="-1" strike="noStrike">
                          <a:solidFill>
                            <a:srgbClr val="ffffff"/>
                          </a:solidFill>
                          <a:latin typeface="Trebuchet MS"/>
                        </a:rPr>
                        <a:t>Cargos Administrativos</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29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085</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Gerente Empresa Social del Estado</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111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068</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Auxiliar administrativo</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111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470</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Auxiliar de Servicios Generales</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20680">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Celador</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82520">
                <a:tc gridSpan="2">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 </a:t>
                      </a:r>
                      <a:r>
                        <a:rPr b="1" lang="es-CO" sz="1200" spc="-1" strike="noStrike">
                          <a:solidFill>
                            <a:srgbClr val="ffffff"/>
                          </a:solidFill>
                          <a:latin typeface="Trebuchet MS"/>
                        </a:rPr>
                        <a:t>TOTAL, ADMINISTRATIVOS</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4</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20680">
                <a:tc gridSpan="3">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Cargos Asistenciales</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11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305</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Médico Servicio Social Obligatorio</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2</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2068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325</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Odontólogo</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399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314</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Técnico Operativo - Regente de Farmacia</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111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412</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Auxiliar Área Salud - Vacunación</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1112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412</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Auxiliar Área Salud - Enfermería PyP</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1256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412</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Auxiliar Área Salud - Enfermería </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4</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19240">
                <a:tc gridSpan="2">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TOTAL ASISTENCIALES</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0</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20680">
                <a:tc gridSpan="2">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ffffff"/>
                          </a:solidFill>
                          <a:latin typeface="Trebuchet MS"/>
                        </a:rPr>
                        <a:t>TOTAL CARGOS</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000000"/>
                          </a:solidFill>
                          <a:latin typeface="Trebuchet MS"/>
                        </a:rPr>
                        <a:t>14</a:t>
                      </a:r>
                      <a:endParaRPr b="0" lang="en-US" sz="12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
        <p:nvSpPr>
          <p:cNvPr id="284" name="PlaceHolder 1"/>
          <p:cNvSpPr>
            <a:spLocks noGrp="1"/>
          </p:cNvSpPr>
          <p:nvPr>
            <p:ph/>
          </p:nvPr>
        </p:nvSpPr>
        <p:spPr>
          <a:xfrm>
            <a:off x="5087520" y="2160720"/>
            <a:ext cx="4186440" cy="576000"/>
          </a:xfrm>
          <a:prstGeom prst="rect">
            <a:avLst/>
          </a:prstGeom>
          <a:noFill/>
          <a:ln w="0">
            <a:noFill/>
          </a:ln>
        </p:spPr>
        <p:txBody>
          <a:bodyPr lIns="90000" rIns="90000" tIns="46800" bIns="46800" anchor="b">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404040"/>
              </a:solidFill>
              <a:latin typeface="Trebuchet MS"/>
            </a:endParaRPr>
          </a:p>
        </p:txBody>
      </p:sp>
      <p:graphicFrame>
        <p:nvGraphicFramePr>
          <p:cNvPr id="285" name=""/>
          <p:cNvGraphicFramePr/>
          <p:nvPr/>
        </p:nvGraphicFramePr>
        <p:xfrm>
          <a:off x="5087880" y="193680"/>
          <a:ext cx="6881760" cy="6400800"/>
        </p:xfrm>
        <a:graphic>
          <a:graphicData uri="http://schemas.openxmlformats.org/drawingml/2006/table">
            <a:tbl>
              <a:tblPr/>
              <a:tblGrid>
                <a:gridCol w="1533600"/>
                <a:gridCol w="4173480"/>
                <a:gridCol w="1174680"/>
              </a:tblGrid>
              <a:tr h="1130400">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ÓDIGO según Dec. 785 de 2005</a:t>
                      </a:r>
                      <a:endParaRPr b="0" lang="en-US" sz="16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Denominación del empleo según Dec. 785 de 2005</a:t>
                      </a:r>
                      <a:endParaRPr b="0" lang="en-US" sz="16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No. de cargos</a:t>
                      </a:r>
                      <a:endParaRPr b="0" lang="en-US" sz="16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376200">
                <a:tc gridSpan="3">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                 </a:t>
                      </a:r>
                      <a:r>
                        <a:rPr b="1" lang="es-CO" sz="1600" spc="-1" strike="noStrike">
                          <a:solidFill>
                            <a:srgbClr val="ffffff"/>
                          </a:solidFill>
                          <a:latin typeface="Trebuchet MS"/>
                        </a:rPr>
                        <a:t>Cargos Administrativo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62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085</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Gerente Empresa Social del Estado</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762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068</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administrativo</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762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70</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de Servicios Generale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76200">
                <a:tc gridSpan="2">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 </a:t>
                      </a:r>
                      <a:r>
                        <a:rPr b="1" lang="es-CO" sz="1600" spc="-1" strike="noStrike">
                          <a:solidFill>
                            <a:srgbClr val="ffffff"/>
                          </a:solidFill>
                          <a:latin typeface="Trebuchet MS"/>
                        </a:rPr>
                        <a:t>TOTAL, ADMINISTRATIVO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3</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78000">
                <a:tc gridSpan="3">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argos Asistenciale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62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305</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Médico Servicio Social Obligatorio</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2</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762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325</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Odontólogo</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762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314</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Técnico Operativo - Regente de Farmacia</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762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12</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Área Salud - Vacunación</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762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12</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Área Salud - Enfermería PyP</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78000">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412</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Auxiliar Área Salud - Enfermería </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4</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76200">
                <a:tc gridSpan="2">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TOTAL ASISTENCIALE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0</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76200">
                <a:tc gridSpan="2">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TOTAL CARGOS</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13</a:t>
                      </a:r>
                      <a:endParaRPr b="0" lang="en-US" sz="16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6" name=""/>
          <p:cNvGraphicFramePr/>
          <p:nvPr/>
        </p:nvGraphicFramePr>
        <p:xfrm>
          <a:off x="544680" y="138240"/>
          <a:ext cx="5454360" cy="6581520"/>
        </p:xfrm>
        <a:graphic>
          <a:graphicData uri="http://schemas.openxmlformats.org/drawingml/2006/table">
            <a:tbl>
              <a:tblPr/>
              <a:tblGrid>
                <a:gridCol w="341280"/>
                <a:gridCol w="2550960"/>
                <a:gridCol w="1197000"/>
                <a:gridCol w="1365120"/>
              </a:tblGrid>
              <a:tr h="676080">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 </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800" spc="-1" strike="noStrike">
                          <a:solidFill>
                            <a:srgbClr val="ffffff"/>
                          </a:solidFill>
                          <a:latin typeface="Trebuchet MS"/>
                        </a:rPr>
                        <a:t>OBJETO</a:t>
                      </a:r>
                      <a:endParaRPr b="0" lang="en-US" sz="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800" spc="-1" strike="noStrike">
                          <a:solidFill>
                            <a:srgbClr val="ffffff"/>
                          </a:solidFill>
                          <a:latin typeface="Trebuchet MS"/>
                        </a:rPr>
                        <a:t>ÁREA</a:t>
                      </a:r>
                      <a:endParaRPr b="0" lang="en-US" sz="8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800" spc="-1" strike="noStrike">
                          <a:solidFill>
                            <a:srgbClr val="ffffff"/>
                          </a:solidFill>
                          <a:latin typeface="Trebuchet MS"/>
                        </a:rPr>
                        <a:t>CANT. PERS.</a:t>
                      </a:r>
                      <a:endParaRPr b="0" lang="en-US" sz="8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52380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1</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sesor Jurídico </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76212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2</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uxiliar Administrativo (Admisiones, Cartera)</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rowSpan="2">
                  <a:txBody>
                    <a:bodyPr lIns="44280" rIns="4428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2</a:t>
                      </a:r>
                      <a:endParaRPr b="0" lang="en-US" sz="14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6212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3</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uxiliar Administrativo (Facturación, Admisiones SIAU)</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380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4</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Celador ( Reemplazo ) </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2380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5</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Contador</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52380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6</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Conductor  y Oficios Varios </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Ope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6212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7</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Profesional Del Área De La Salud (Bacterióloga)</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Ope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76212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ffffff"/>
                          </a:solidFill>
                          <a:latin typeface="Trebuchet MS"/>
                        </a:rPr>
                        <a:t>8</a:t>
                      </a:r>
                      <a:endParaRPr b="0" lang="en-US" sz="11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Técnica Auxiliar En Higiene Oral Y Odontología</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Ope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61760">
                <a:tc gridSpan="3">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      </a:t>
                      </a:r>
                      <a:r>
                        <a:rPr b="1" lang="es-CO" sz="1400" spc="-1" strike="noStrike">
                          <a:solidFill>
                            <a:srgbClr val="ffffff"/>
                          </a:solidFill>
                          <a:latin typeface="Trebuchet MS"/>
                        </a:rPr>
                        <a:t>TOTAL</a:t>
                      </a:r>
                      <a:endParaRPr b="0" lang="en-US" sz="14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 </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8</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graphicFrame>
        <p:nvGraphicFramePr>
          <p:cNvPr id="287" name=""/>
          <p:cNvGraphicFramePr/>
          <p:nvPr/>
        </p:nvGraphicFramePr>
        <p:xfrm>
          <a:off x="6289560" y="290520"/>
          <a:ext cx="5667480" cy="6388200"/>
        </p:xfrm>
        <a:graphic>
          <a:graphicData uri="http://schemas.openxmlformats.org/drawingml/2006/table">
            <a:tbl>
              <a:tblPr/>
              <a:tblGrid>
                <a:gridCol w="3314880"/>
                <a:gridCol w="1174680"/>
                <a:gridCol w="625320"/>
                <a:gridCol w="138240"/>
                <a:gridCol w="414360"/>
              </a:tblGrid>
              <a:tr h="166680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OBJET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ÁREA</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2">
                  <a:txBody>
                    <a:bodyPr lIns="44280" rIns="4428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CANT. PERS.</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4780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Asesor Jurídico </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gridSpan="2">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7592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Auxiliar Administrativo (Admisiones, Cartera)</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rowSpan="2">
                  <a:txBody>
                    <a:bodyPr lIns="44280" rIns="4428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2</a:t>
                      </a:r>
                      <a:endParaRPr b="0" lang="en-US" sz="14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780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Auxiliar Administrativo (Facturación, Admisiones SIAU)</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762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Celador </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7772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Contador</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Administ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7772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Conductor  y Oficios Varios </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Ope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4280" rIns="4428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762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Profesional Del Área De La Salud (Bacterióloga)</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Ope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7808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Técnica Auxiliar En Higiene Oral Y Odontología</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Ope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75920">
                <a:tc>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Celador reemplazo fines de semana</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Operativo</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1</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27320">
                <a:tc gridSpan="3">
                  <a:txBody>
                    <a:bodyPr lIns="44280" rIns="442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      </a:t>
                      </a:r>
                      <a:r>
                        <a:rPr b="1" lang="es-CO" sz="1400" spc="-1" strike="noStrike">
                          <a:solidFill>
                            <a:srgbClr val="ffffff"/>
                          </a:solidFill>
                          <a:latin typeface="Trebuchet MS"/>
                        </a:rPr>
                        <a:t>TOTAL</a:t>
                      </a:r>
                      <a:endParaRPr b="0" lang="en-US" sz="14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ffffff"/>
                          </a:solidFill>
                          <a:latin typeface="Trebuchet MS"/>
                        </a:rPr>
                        <a:t> </a:t>
                      </a:r>
                      <a:endParaRPr b="0" lang="en-US" sz="1400" spc="-1" strike="noStrike">
                        <a:solidFill>
                          <a:srgbClr val="000000"/>
                        </a:solidFill>
                        <a:latin typeface="Calibri"/>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44280" rIns="442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Trebuchet MS"/>
                        </a:rPr>
                        <a:t>9</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365040"/>
            <a:ext cx="11231640" cy="868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800" spc="-1" strike="noStrike">
                <a:solidFill>
                  <a:srgbClr val="90c226"/>
                </a:solidFill>
                <a:latin typeface="Trebuchet MS"/>
              </a:rPr>
              <a:t>Seguros de responsabilidad civil, automóviles y seguros en general</a:t>
            </a:r>
            <a:endParaRPr b="0" lang="en-US" sz="2800" spc="-1" strike="noStrike">
              <a:solidFill>
                <a:srgbClr val="90c226"/>
              </a:solidFill>
              <a:latin typeface="Trebuchet MS"/>
            </a:endParaRPr>
          </a:p>
        </p:txBody>
      </p:sp>
      <p:graphicFrame>
        <p:nvGraphicFramePr>
          <p:cNvPr id="289" name=""/>
          <p:cNvGraphicFramePr/>
          <p:nvPr/>
        </p:nvGraphicFramePr>
        <p:xfrm>
          <a:off x="277920" y="1136520"/>
          <a:ext cx="11179080" cy="5139000"/>
        </p:xfrm>
        <a:graphic>
          <a:graphicData uri="http://schemas.openxmlformats.org/drawingml/2006/table">
            <a:tbl>
              <a:tblPr/>
              <a:tblGrid>
                <a:gridCol w="2993760"/>
                <a:gridCol w="2060640"/>
                <a:gridCol w="1595520"/>
                <a:gridCol w="1646280"/>
                <a:gridCol w="2882880"/>
              </a:tblGrid>
              <a:tr h="49716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92d050"/>
                          </a:solidFill>
                          <a:latin typeface="Century Gothic"/>
                          <a:ea typeface="Times New Roman"/>
                        </a:rPr>
                        <a:t>ADMINISTRADORA</a:t>
                      </a:r>
                      <a:endParaRPr b="0" lang="en-US" sz="18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92d050"/>
                          </a:solidFill>
                          <a:latin typeface="Century Gothic"/>
                          <a:ea typeface="Times New Roman"/>
                        </a:rPr>
                        <a:t>POLIZA</a:t>
                      </a:r>
                      <a:endParaRPr b="0" lang="en-US" sz="18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92d050"/>
                          </a:solidFill>
                          <a:latin typeface="Century Gothic"/>
                          <a:ea typeface="Times New Roman"/>
                        </a:rPr>
                        <a:t>VALOR</a:t>
                      </a:r>
                      <a:endParaRPr b="0" lang="en-US" sz="18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92d050"/>
                          </a:solidFill>
                          <a:latin typeface="Century Gothic"/>
                          <a:ea typeface="Times New Roman"/>
                        </a:rPr>
                        <a:t>ASEGURADO</a:t>
                      </a:r>
                      <a:endParaRPr b="0" lang="en-US" sz="18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92d050"/>
                          </a:solidFill>
                          <a:latin typeface="Century Gothic"/>
                          <a:ea typeface="Times New Roman"/>
                        </a:rPr>
                        <a:t>VIGENCIA</a:t>
                      </a:r>
                      <a:endParaRPr b="0" lang="en-US" sz="18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116028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Aseguradora Solidaria de Colombia</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Seguros General</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 11.841.853</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 2.088.025.000</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09-06-2020 A 09-06-2022.</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6064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Aseguradora Solidaria de Colombia</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Seguros Automóviles</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 14.517,500</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 775.400.000</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12-06-2020 A 12-06-2022.</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6028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Aseguradora Solidaria de Colombia</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Responsabilidad civil</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 </a:t>
                      </a:r>
                      <a:r>
                        <a:rPr b="0" lang="es-ES" sz="2000" spc="-1" strike="noStrike">
                          <a:solidFill>
                            <a:srgbClr val="000000"/>
                          </a:solidFill>
                          <a:latin typeface="Century Gothic"/>
                          <a:ea typeface="Times New Roman"/>
                        </a:rPr>
                        <a:t>$ 13702.850</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 500.000.000</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9-06-2020 A 9-06-2022</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6064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Aseguradora Solidaria de Colombia</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Otros seguros</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 46.220</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 12.806.054,79</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entury Gothic"/>
                          <a:ea typeface="Times New Roman"/>
                        </a:rPr>
                        <a:t>17-08-2021-9-06-2022</a:t>
                      </a:r>
                      <a:endParaRPr b="0" lang="en-US" sz="2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47680" y="178920"/>
            <a:ext cx="116251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90c226"/>
                </a:solidFill>
                <a:latin typeface="Trebuchet MS"/>
              </a:rPr>
              <a:t>Comparativo de compras de insumos y suministros hospitalarios. año 2020 y de año 2021</a:t>
            </a:r>
            <a:endParaRPr b="0" lang="en-US" sz="3600" spc="-1" strike="noStrike">
              <a:solidFill>
                <a:srgbClr val="90c226"/>
              </a:solidFill>
              <a:latin typeface="Trebuchet MS"/>
            </a:endParaRPr>
          </a:p>
        </p:txBody>
      </p:sp>
      <p:graphicFrame>
        <p:nvGraphicFramePr>
          <p:cNvPr id="291" name=""/>
          <p:cNvGraphicFramePr/>
          <p:nvPr/>
        </p:nvGraphicFramePr>
        <p:xfrm>
          <a:off x="387360" y="1500120"/>
          <a:ext cx="11320560" cy="5011920"/>
        </p:xfrm>
        <a:graphic>
          <a:graphicData uri="http://schemas.openxmlformats.org/drawingml/2006/table">
            <a:tbl>
              <a:tblPr/>
              <a:tblGrid>
                <a:gridCol w="4145040"/>
                <a:gridCol w="4087800"/>
                <a:gridCol w="3087720"/>
              </a:tblGrid>
              <a:tr h="11509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ffffff"/>
                          </a:solidFill>
                          <a:latin typeface="Trebuchet MS"/>
                        </a:rPr>
                        <a:t>Insumos hospitalarios</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ffffff"/>
                          </a:solidFill>
                          <a:latin typeface="Trebuchet MS"/>
                        </a:rPr>
                        <a:t>2020</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ffffff"/>
                          </a:solidFill>
                          <a:latin typeface="Trebuchet MS"/>
                        </a:rPr>
                        <a:t>Año 2021</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7603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ffffff"/>
                          </a:solidFill>
                          <a:latin typeface="Trebuchet MS"/>
                        </a:rPr>
                        <a:t>Productos farmacéuticos</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47.124.711</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64.875.671</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9496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ffffff"/>
                          </a:solidFill>
                          <a:latin typeface="Trebuchet MS"/>
                        </a:rPr>
                        <a:t>Material médico Quirúrgico</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11.453.778</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12.684.968</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58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ffffff"/>
                          </a:solidFill>
                          <a:latin typeface="Trebuchet MS"/>
                        </a:rPr>
                        <a:t>Material de laboratorio</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7.646.391</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20.023.878</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3360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ffffff"/>
                          </a:solidFill>
                          <a:latin typeface="Trebuchet MS"/>
                        </a:rPr>
                        <a:t>Material para odontología</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5.189.091</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8.200.959</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58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ffffff"/>
                          </a:solidFill>
                          <a:latin typeface="Trebuchet MS"/>
                        </a:rPr>
                        <a:t>Total</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71.413,971</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Trebuchet MS"/>
                        </a:rPr>
                        <a:t>105.785.476</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08080" y="0"/>
            <a:ext cx="11471040" cy="124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90c226"/>
                </a:solidFill>
                <a:latin typeface="Trebuchet MS"/>
              </a:rPr>
              <a:t> </a:t>
            </a:r>
            <a:r>
              <a:rPr b="0" lang="es-CO" sz="3200" spc="-1" strike="noStrike">
                <a:solidFill>
                  <a:srgbClr val="90c226"/>
                </a:solidFill>
                <a:latin typeface="Trebuchet MS"/>
              </a:rPr>
              <a:t>programas y proyectos Interadministrativos-Municipio -Hospital contratados en el año 2021</a:t>
            </a:r>
            <a:br>
              <a:rPr sz="3200"/>
            </a:br>
            <a:br>
              <a:rPr sz="3200"/>
            </a:br>
            <a:endParaRPr b="0" lang="en-US" sz="3200" spc="-1" strike="noStrike">
              <a:solidFill>
                <a:srgbClr val="90c226"/>
              </a:solidFill>
              <a:latin typeface="Trebuchet MS"/>
            </a:endParaRPr>
          </a:p>
        </p:txBody>
      </p:sp>
      <p:graphicFrame>
        <p:nvGraphicFramePr>
          <p:cNvPr id="293" name=""/>
          <p:cNvGraphicFramePr/>
          <p:nvPr/>
        </p:nvGraphicFramePr>
        <p:xfrm>
          <a:off x="27000" y="1008000"/>
          <a:ext cx="11802960" cy="5203800"/>
        </p:xfrm>
        <a:graphic>
          <a:graphicData uri="http://schemas.openxmlformats.org/drawingml/2006/table">
            <a:tbl>
              <a:tblPr/>
              <a:tblGrid>
                <a:gridCol w="6838920"/>
                <a:gridCol w="1776600"/>
                <a:gridCol w="1454040"/>
                <a:gridCol w="1733400"/>
              </a:tblGrid>
              <a:tr h="2444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Program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onvenio nr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institució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Valor</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4874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Plan de intervenciones colectivas-Pic</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Nro.SS-CI-001-2021</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Municipio de Alejandrí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88.110.253</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874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Atención primaria en salud-Ap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Nro.SS-CI-007-2021</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Municipio de Alejandrí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60.125.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874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Atención  a población pobre no asegurad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Nro.SS-CI-002-2021</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Municipio de Alejandrí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139.329.903</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508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onvenio interadministrativo apoyo compra de insumos, medicamnto,oxigeno, equipos biomédicos y roperi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Nro-SG-CONV-009-2021</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Municipio de Alejandrí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41.000.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9763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onvenio interadministrativo para el mejoramiento tecnológico de la ese hospital Pbro. Luis Felipe Arbeláez del municipio de Alejandría, Antioquia en pro de una mejor y eficiente caracterización de datos y prestación de los servicios de salud</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Nro.SS-CONV-010-2021</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Municipio de Alejandrí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21.556.68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974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Convenio interadministrativo para implementación de medidas del  programa de saneamiento fiscal y financiero psff y actualización del  archivo documental y archivístico de la ese. Hospital Pbro. Luis Felipe Arbeláez Municipio de Alejandrí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N° SS-CONV-013-2021</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Municipio de Alejandrí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21.000.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526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Transferencia de recursos financieras de gastos de inversión  de la Secretaria Seccional de salud y Protección Social de Antioqui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Resolución 2021060095572</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30000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37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Trebuchet MS"/>
                        </a:rPr>
                        <a:t>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rebuchet MS"/>
                        </a:rPr>
                        <a:t>$ 671.121.84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
        <p:nvSpPr>
          <p:cNvPr id="294" name="Rectangle 1"/>
          <p:cNvSpPr/>
          <p:nvPr/>
        </p:nvSpPr>
        <p:spPr>
          <a:xfrm>
            <a:off x="-5099040" y="-1338120"/>
            <a:ext cx="21926520" cy="83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78920" y="-360"/>
            <a:ext cx="11819160" cy="747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90c226"/>
                </a:solidFill>
                <a:latin typeface="Trebuchet MS"/>
              </a:rPr>
              <a:t>Primeras diez causas de consulta externa año 2020 -2021</a:t>
            </a:r>
            <a:endParaRPr b="0" lang="en-US" sz="3200" spc="-1" strike="noStrike">
              <a:solidFill>
                <a:srgbClr val="90c226"/>
              </a:solidFill>
              <a:latin typeface="Trebuchet MS"/>
            </a:endParaRPr>
          </a:p>
        </p:txBody>
      </p:sp>
      <p:graphicFrame>
        <p:nvGraphicFramePr>
          <p:cNvPr id="296" name=""/>
          <p:cNvGraphicFramePr/>
          <p:nvPr/>
        </p:nvGraphicFramePr>
        <p:xfrm>
          <a:off x="179280" y="747720"/>
          <a:ext cx="5029200" cy="5516640"/>
        </p:xfrm>
        <a:graphic>
          <a:graphicData uri="http://schemas.openxmlformats.org/drawingml/2006/table">
            <a:tbl>
              <a:tblPr/>
              <a:tblGrid>
                <a:gridCol w="479520"/>
                <a:gridCol w="2577960"/>
                <a:gridCol w="762120"/>
                <a:gridCol w="539640"/>
                <a:gridCol w="669960"/>
              </a:tblGrid>
              <a:tr h="42696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código</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descripción</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mujeres</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hombre</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total</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i10x</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hipertension esencial (primaria)</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216</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32</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348</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40824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z000</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examen medico general</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36</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23</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59</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r42x</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mareo y desvanecimiento</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7</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8</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25</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n390</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infeccion de vias urinarias* sitio no especificado</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8</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6</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24</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76860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e109</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diabetes mellitus insulinodependiente sin mencion de complicacion</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4</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8</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22</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j449</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enfermedad pulmonar obstructiva cronica* no especificada</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3</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8</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21</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m545</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lumbago no especificado</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0</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7</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7</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r51x</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cefalea</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0</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6</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6</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i872</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insuficiencia venosa (cronica) (periferica)</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5</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 </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5</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r h="768600">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e119</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diabetes mellitus no insulinodependiente sin mencion de complicacion</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4</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 </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c>
                  <a:txBody>
                    <a:bodyPr lIns="33120" rIns="3312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ea typeface="Times New Roman"/>
                        </a:rPr>
                        <a:t>14</a:t>
                      </a:r>
                      <a:endParaRPr b="0" lang="en-US" sz="1400" spc="-1" strike="noStrike">
                        <a:solidFill>
                          <a:srgbClr val="000000"/>
                        </a:solidFill>
                        <a:latin typeface="Calibri"/>
                      </a:endParaRPr>
                    </a:p>
                  </a:txBody>
                  <a:tcPr anchor="b" marL="33120" marR="33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97" name=""/>
          <p:cNvGraphicFramePr/>
          <p:nvPr/>
        </p:nvGraphicFramePr>
        <p:xfrm>
          <a:off x="5559480" y="747720"/>
          <a:ext cx="6632640" cy="5992920"/>
        </p:xfrm>
        <a:graphic>
          <a:graphicData uri="http://schemas.openxmlformats.org/drawingml/2006/table">
            <a:tbl>
              <a:tblPr/>
              <a:tblGrid>
                <a:gridCol w="1409760"/>
                <a:gridCol w="763560"/>
                <a:gridCol w="593640"/>
                <a:gridCol w="495360"/>
                <a:gridCol w="695160"/>
                <a:gridCol w="594000"/>
                <a:gridCol w="507960"/>
                <a:gridCol w="595080"/>
                <a:gridCol w="978120"/>
              </a:tblGrid>
              <a:tr h="5025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DIAGNOSTICO</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COD DIAGNOSTICO</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De 00 a &lt;1 año</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De 01 a 04 años</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De 05 a 14 años</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De 15 a 44 años</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De 45 a 59 años</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De 60 a mas años</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Total general</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HIPERTENSION ESENCIAL (PRIMARIA)</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I10X</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3</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5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2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70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98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CONTROL DE SALUD DE RUTINA DEL NINO</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Z00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9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4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5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49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EXAMEN MEDICO GENERAL</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Z000</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7</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9</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84</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4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6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28</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8373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SUPERVISION DE EMBARAZO CON OTRO RIESGO EN LA HISTORIA OBSTE</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Z35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9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9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PACIENTE SANO</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Z01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8</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4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7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4</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0</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67</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CARIES DE LA DENTINA</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K02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4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6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4</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3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FRACTURA DE LOS DIENTES</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S02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6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7</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2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8373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CONSEJO Y ASESORAMIENTO GENERAL SOBRE LA ANTICONCEPCION</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Z300</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9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8</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0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INFECCION DE VIAS URINARIAS, SITIO NO ESPECIFICADO</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N390</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3</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3</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4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7</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3</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98</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45180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COVID-19 VIRUS NO IDENTIFICADO</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U072</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3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4</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9</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59</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LUMBAGO NO ESPECIFICADO</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M545</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31</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2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18</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76</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a:noFill/>
                    </a:lnB>
                    <a:noFill/>
                  </a:tcPr>
                </a:tc>
              </a:tr>
              <a:tr h="167760">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c>
                  <a:txBody>
                    <a:bodyPr lIns="43560" rIns="4356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c>
                  <a:txBody>
                    <a:bodyPr lIns="43560" rIns="4356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a:txBody>
                  <a:tcPr anchor="b" marL="43560" marR="4356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04640" y="365040"/>
            <a:ext cx="11312640" cy="13255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600" spc="-1" strike="noStrike">
                <a:solidFill>
                  <a:srgbClr val="90c226"/>
                </a:solidFill>
                <a:latin typeface="Trebuchet MS"/>
              </a:rPr>
              <a:t>PLATAFORMA ESTRATEGICA</a:t>
            </a:r>
            <a:endParaRPr b="0" lang="en-US" sz="3600" spc="-1" strike="noStrike">
              <a:solidFill>
                <a:srgbClr val="90c226"/>
              </a:solidFill>
              <a:latin typeface="Trebuchet MS"/>
            </a:endParaRPr>
          </a:p>
        </p:txBody>
      </p:sp>
      <p:sp>
        <p:nvSpPr>
          <p:cNvPr id="224" name="PlaceHolder 2"/>
          <p:cNvSpPr>
            <a:spLocks noGrp="1"/>
          </p:cNvSpPr>
          <p:nvPr>
            <p:ph/>
          </p:nvPr>
        </p:nvSpPr>
        <p:spPr>
          <a:xfrm>
            <a:off x="1295280" y="1690920"/>
            <a:ext cx="4718160" cy="443160"/>
          </a:xfrm>
          <a:prstGeom prst="rect">
            <a:avLst/>
          </a:prstGeom>
          <a:noFill/>
          <a:ln w="0">
            <a:noFill/>
          </a:ln>
        </p:spPr>
        <p:txBody>
          <a:bodyPr anchor="b">
            <a:normAutofit fontScale="42000"/>
          </a:bodyPr>
          <a:p>
            <a:pPr indent="0" algn="ct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404040"/>
              </a:solidFill>
              <a:latin typeface="Trebuchet MS"/>
            </a:endParaRPr>
          </a:p>
          <a:p>
            <a:pPr indent="0" algn="ct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4400" spc="-1" strike="noStrike">
                <a:solidFill>
                  <a:srgbClr val="404040"/>
                </a:solidFill>
                <a:latin typeface="Trebuchet MS"/>
              </a:rPr>
              <a:t>MISION</a:t>
            </a:r>
            <a:endParaRPr b="0" lang="en-US" sz="4400" spc="-1" strike="noStrike">
              <a:solidFill>
                <a:srgbClr val="404040"/>
              </a:solidFill>
              <a:latin typeface="Trebuchet MS"/>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p:txBody>
      </p:sp>
      <p:sp>
        <p:nvSpPr>
          <p:cNvPr id="225" name=""/>
          <p:cNvSpPr txBox="1"/>
          <p:nvPr/>
        </p:nvSpPr>
        <p:spPr>
          <a:xfrm>
            <a:off x="0" y="1910880"/>
            <a:ext cx="6330960" cy="41022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Somos una Empresa Social del Estado que prestamos servicios de salud de baja complejidad, orientada a contribuir al mejoramiento de la calidad de vida de los Alejandrinos, con profesionales idóneos y personal comprometido, con el propósito de brindar atención humanizada, con calidez, calidad y eficiencia, garantizando el acceso, la oportunidad y la continuidad en la prestación de los servicios bajo el enfoque de gestión del riesgo individual en salud y la atención primaria en salud.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6" name="PlaceHolder 3"/>
          <p:cNvSpPr>
            <a:spLocks noGrp="1"/>
          </p:cNvSpPr>
          <p:nvPr>
            <p:ph/>
          </p:nvPr>
        </p:nvSpPr>
        <p:spPr>
          <a:xfrm>
            <a:off x="7044840" y="1104480"/>
            <a:ext cx="4032360" cy="654120"/>
          </a:xfrm>
          <a:prstGeom prst="rect">
            <a:avLst/>
          </a:prstGeom>
          <a:noFill/>
          <a:ln w="0">
            <a:noFill/>
          </a:ln>
        </p:spPr>
        <p:txBody>
          <a:bodyPr anchor="b">
            <a:normAutofit/>
          </a:bodyPr>
          <a:p>
            <a:pPr indent="0" algn="ct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100" spc="-1" strike="noStrike">
                <a:solidFill>
                  <a:srgbClr val="404040"/>
                </a:solidFill>
                <a:latin typeface="Trebuchet MS"/>
              </a:rPr>
              <a:t>VISION </a:t>
            </a:r>
            <a:endParaRPr b="0" lang="en-US" sz="4100" spc="-1" strike="noStrike">
              <a:solidFill>
                <a:srgbClr val="404040"/>
              </a:solidFill>
              <a:latin typeface="Trebuchet MS"/>
            </a:endParaRPr>
          </a:p>
        </p:txBody>
      </p:sp>
      <p:sp>
        <p:nvSpPr>
          <p:cNvPr id="227" name=""/>
          <p:cNvSpPr txBox="1"/>
          <p:nvPr/>
        </p:nvSpPr>
        <p:spPr>
          <a:xfrm>
            <a:off x="6172200" y="1910880"/>
            <a:ext cx="6019920" cy="45817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La Empresa Social del Estado Hospital Pbro. Luis Felipe Arbeláez será en el año 2024 una institución prestadora de servicios de salud, reconocidos por la comunidad por ser pionera en la región por su calidad en la prestación en el servicio de baja complejidad, la seguridad en la atención del individuo, familia y comunidad, la atención humanizada, ética, competitiva, con rentabilidad y responsabilidad social, que le apuesta a mantener un equilibrio económico y que se mantenga financieramente viabl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35080" y="124920"/>
            <a:ext cx="11625120" cy="9003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1.GESTION DE SERVICIOS EN SALUD</a:t>
            </a:r>
            <a:endParaRPr b="0" lang="en-US" sz="3600" spc="-1" strike="noStrike">
              <a:solidFill>
                <a:srgbClr val="90c226"/>
              </a:solidFill>
              <a:latin typeface="Trebuchet MS"/>
            </a:endParaRPr>
          </a:p>
        </p:txBody>
      </p:sp>
      <p:pic>
        <p:nvPicPr>
          <p:cNvPr id="299" name="Marcador de contenido 1" descr=""/>
          <p:cNvPicPr/>
          <p:nvPr/>
        </p:nvPicPr>
        <p:blipFill>
          <a:blip r:embed="rId1"/>
          <a:stretch/>
        </p:blipFill>
        <p:spPr>
          <a:xfrm>
            <a:off x="235080" y="633240"/>
            <a:ext cx="11150640" cy="622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60" y="162000"/>
            <a:ext cx="12192120" cy="560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90c226"/>
                </a:solidFill>
                <a:latin typeface="Trebuchet MS"/>
              </a:rPr>
              <a:t>PRODUCCIÓN DE SERVICIOS</a:t>
            </a:r>
            <a:endParaRPr b="0" lang="en-US" sz="3200" spc="-1" strike="noStrike">
              <a:solidFill>
                <a:srgbClr val="90c226"/>
              </a:solidFill>
              <a:latin typeface="Trebuchet MS"/>
            </a:endParaRPr>
          </a:p>
        </p:txBody>
      </p:sp>
      <p:graphicFrame>
        <p:nvGraphicFramePr>
          <p:cNvPr id="301" name=""/>
          <p:cNvGraphicFramePr/>
          <p:nvPr/>
        </p:nvGraphicFramePr>
        <p:xfrm>
          <a:off x="368280" y="857160"/>
          <a:ext cx="11415600" cy="5926320"/>
        </p:xfrm>
        <a:graphic>
          <a:graphicData uri="http://schemas.openxmlformats.org/drawingml/2006/table">
            <a:tbl>
              <a:tblPr/>
              <a:tblGrid>
                <a:gridCol w="5234040"/>
                <a:gridCol w="1403280"/>
                <a:gridCol w="1592280"/>
                <a:gridCol w="1593720"/>
                <a:gridCol w="1592280"/>
              </a:tblGrid>
              <a:tr h="213480">
                <a:tc>
                  <a:txBody>
                    <a:bodyPr lIns="0" rIns="0" tIns="0" bIns="0" anchor="t">
                      <a:noAutofit/>
                    </a:bodyPr>
                    <a:p>
                      <a:pPr marL="38160" algn="ct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b0f0"/>
                          </a:solidFill>
                          <a:latin typeface="Arial MT"/>
                          <a:ea typeface="Arial MT"/>
                        </a:rPr>
                        <a:t>Variable</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marL="15084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b0f0"/>
                          </a:solidFill>
                          <a:latin typeface="Arial MT"/>
                          <a:ea typeface="Arial MT"/>
                        </a:rPr>
                        <a:t>2018</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marL="1890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b0f0"/>
                          </a:solidFill>
                          <a:latin typeface="Arial MT"/>
                          <a:ea typeface="Arial MT"/>
                        </a:rPr>
                        <a:t>2019</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marL="1890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b0f0"/>
                          </a:solidFill>
                          <a:latin typeface="Arial MT"/>
                          <a:ea typeface="Arial MT"/>
                        </a:rPr>
                        <a:t>202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marL="1890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b0f0"/>
                          </a:solidFill>
                          <a:latin typeface="Arial MT"/>
                          <a:ea typeface="Arial MT"/>
                        </a:rPr>
                        <a:t>2021</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8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Camas de hospitalización</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36972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Total de egreso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49</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9</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2</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8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Porcentaje Ocupacional</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0,5</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8,62</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8,6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6,42</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8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Promedio Dias Estancia</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5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1</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75</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6,9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8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Giro Cama</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6,3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9,67</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8</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0,67</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3380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Consultas Electiva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17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96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88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502</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538200">
                <a:tc>
                  <a:txBody>
                    <a:bodyPr lIns="0" rIns="0" tIns="0" bIns="0" anchor="t">
                      <a:noAutofit/>
                    </a:bodyPr>
                    <a:p>
                      <a:pPr marL="12600">
                        <a:lnSpc>
                          <a:spcPts val="95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Consultas de medicina general urgentes realizada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691</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768</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626</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685</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534960">
                <a:tc>
                  <a:txBody>
                    <a:bodyPr lIns="0" rIns="0" tIns="0" bIns="0" anchor="t">
                      <a:noAutofit/>
                    </a:bodyPr>
                    <a:p>
                      <a:pPr marL="12600">
                        <a:lnSpc>
                          <a:spcPts val="95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Consultas de medicina especializada urgentes realizada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3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534960">
                <a:tc>
                  <a:txBody>
                    <a:bodyPr lIns="0" rIns="0" tIns="0" bIns="0" anchor="t">
                      <a:noAutofit/>
                    </a:bodyPr>
                    <a:p>
                      <a:pPr marL="12600">
                        <a:lnSpc>
                          <a:spcPts val="95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Total de cirugías realizadas (Sin incluir partos y cesárea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8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Numero de parto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1</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48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 Partos por cesárea</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0</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8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Exámenes de laboratorio</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6.247</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5.316</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298</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4.485</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8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Número de imágenes diagnósticas tomada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57</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65</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1</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84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Dosis de biológico aplicada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627</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468</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83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375</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48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Citologías cervicovaginales tomadas</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59</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508</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439</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452</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54160">
                <a:tc>
                  <a:txBody>
                    <a:bodyPr lIns="0" rIns="0" tIns="0" bIns="0" anchor="t">
                      <a:noAutofit/>
                    </a:bodyPr>
                    <a:p>
                      <a:pPr marL="12600">
                        <a:lnSpc>
                          <a:spcPts val="95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Controles de enfermería (Atención prenatal / crecimiento y desarrollo)</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946</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719</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676</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692</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28512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Producción Equivalente UVR</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9.391,1</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32.258,83</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16.583,84</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c>
                  <a:txBody>
                    <a:bodyPr lIns="0" rIns="0" tIns="0" bIns="0" anchor="t">
                      <a:noAutofit/>
                    </a:bodyPr>
                    <a:p>
                      <a:pPr>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MT"/>
                          <a:ea typeface="Arial MT"/>
                        </a:rPr>
                        <a:t>26.446,21</a:t>
                      </a:r>
                      <a:endParaRPr b="0" lang="en-US" sz="1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05920" y="147600"/>
            <a:ext cx="11798280" cy="1782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90c226"/>
                </a:solidFill>
                <a:latin typeface="Trebuchet MS"/>
              </a:rPr>
              <a:t>CALIDAD DE ATENCIÓN (Indicadores Resolución 1446 del año 2006)</a:t>
            </a:r>
            <a:endParaRPr b="0" lang="en-US" sz="3600" spc="-1" strike="noStrike">
              <a:solidFill>
                <a:srgbClr val="90c226"/>
              </a:solidFill>
              <a:latin typeface="Trebuchet MS"/>
            </a:endParaRPr>
          </a:p>
        </p:txBody>
      </p:sp>
      <p:graphicFrame>
        <p:nvGraphicFramePr>
          <p:cNvPr id="303" name=""/>
          <p:cNvGraphicFramePr/>
          <p:nvPr/>
        </p:nvGraphicFramePr>
        <p:xfrm>
          <a:off x="560520" y="1519200"/>
          <a:ext cx="11179080" cy="4257720"/>
        </p:xfrm>
        <a:graphic>
          <a:graphicData uri="http://schemas.openxmlformats.org/drawingml/2006/table">
            <a:tbl>
              <a:tblPr/>
              <a:tblGrid>
                <a:gridCol w="11179080"/>
              </a:tblGrid>
              <a:tr h="36612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Variable</a:t>
                      </a:r>
                      <a:endParaRPr b="0" lang="en-US" sz="2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129816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MT"/>
                          <a:ea typeface="Arial MT"/>
                        </a:rPr>
                        <a:t>% Muertes intrahospitalarias antes 48 horas</a:t>
                      </a:r>
                      <a:endParaRPr b="0" lang="en-US" sz="2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129708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MT"/>
                          <a:ea typeface="Arial MT"/>
                        </a:rPr>
                        <a:t>% Muertes intrahospitalarias despues 48 horas</a:t>
                      </a:r>
                      <a:endParaRPr b="0" lang="en-US" sz="2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r h="1296360">
                <a:tc>
                  <a:txBody>
                    <a:bodyPr lIns="0" rIns="0" tIns="0" bIns="0" anchor="t">
                      <a:noAutofit/>
                    </a:bodyPr>
                    <a:p>
                      <a:pPr marL="126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MT"/>
                          <a:ea typeface="Arial MT"/>
                        </a:rPr>
                        <a:t>% infeccion intrahospitalaria</a:t>
                      </a:r>
                      <a:endParaRPr b="0" lang="en-US" sz="2400" spc="-1" strike="noStrike">
                        <a:solidFill>
                          <a:srgbClr val="000000"/>
                        </a:solidFill>
                        <a:latin typeface="Calibri"/>
                      </a:endParaRPr>
                    </a:p>
                  </a:txBody>
                  <a:tcPr anchor="t">
                    <a:lnL w="5760">
                      <a:solidFill>
                        <a:srgbClr val="0094c7"/>
                      </a:solidFill>
                    </a:lnL>
                    <a:lnR w="5760">
                      <a:solidFill>
                        <a:srgbClr val="0094c7"/>
                      </a:solidFill>
                    </a:lnR>
                    <a:lnT w="5760">
                      <a:solidFill>
                        <a:srgbClr val="0094c7"/>
                      </a:solidFill>
                    </a:lnT>
                    <a:lnB w="5760">
                      <a:solidFill>
                        <a:srgbClr val="0094c7"/>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63040" y="0"/>
            <a:ext cx="7342200" cy="781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90c226"/>
                </a:solidFill>
                <a:latin typeface="Trebuchet MS"/>
              </a:rPr>
              <a:t>Estados financieros HPLFA- 2020-2021</a:t>
            </a:r>
            <a:endParaRPr b="0" lang="en-US" sz="3200" spc="-1" strike="noStrike">
              <a:solidFill>
                <a:srgbClr val="90c226"/>
              </a:solidFill>
              <a:latin typeface="Trebuchet MS"/>
            </a:endParaRPr>
          </a:p>
        </p:txBody>
      </p:sp>
      <p:sp>
        <p:nvSpPr>
          <p:cNvPr id="305" name="Rectangle 2"/>
          <p:cNvSpPr/>
          <p:nvPr/>
        </p:nvSpPr>
        <p:spPr>
          <a:xfrm>
            <a:off x="442800" y="825480"/>
            <a:ext cx="262987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06" name="Objeto 7"/>
          <p:cNvGraphicFramePr/>
          <p:nvPr/>
        </p:nvGraphicFramePr>
        <p:xfrm>
          <a:off x="442800" y="633240"/>
          <a:ext cx="10869840" cy="6107400"/>
        </p:xfrm>
        <a:graphic>
          <a:graphicData uri="http://schemas.openxmlformats.org/presentationml/2006/ole">
            <p:oleObj progId="Excel.Sheet.12" r:id="rId1" spid="">
              <p:embed/>
              <p:pic>
                <p:nvPicPr>
                  <p:cNvPr id="307" name="Objeto 7" descr=""/>
                  <p:cNvPicPr/>
                  <p:nvPr/>
                </p:nvPicPr>
                <p:blipFill>
                  <a:blip r:embed="rId2"/>
                  <a:stretch/>
                </p:blipFill>
                <p:spPr>
                  <a:xfrm>
                    <a:off x="442800" y="633240"/>
                    <a:ext cx="10869840" cy="610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63040" y="0"/>
            <a:ext cx="7342200" cy="781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90c226"/>
                </a:solidFill>
                <a:latin typeface="Trebuchet MS"/>
              </a:rPr>
              <a:t>Estados financieros HPLFA 2020-2021</a:t>
            </a:r>
            <a:endParaRPr b="0" lang="en-US" sz="3200" spc="-1" strike="noStrike">
              <a:solidFill>
                <a:srgbClr val="90c226"/>
              </a:solidFill>
              <a:latin typeface="Trebuchet MS"/>
            </a:endParaRPr>
          </a:p>
        </p:txBody>
      </p:sp>
      <p:sp>
        <p:nvSpPr>
          <p:cNvPr id="309" name="Rectangle 2"/>
          <p:cNvSpPr/>
          <p:nvPr/>
        </p:nvSpPr>
        <p:spPr>
          <a:xfrm>
            <a:off x="442800" y="825480"/>
            <a:ext cx="262987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2"/>
          <p:cNvSpPr/>
          <p:nvPr/>
        </p:nvSpPr>
        <p:spPr>
          <a:xfrm>
            <a:off x="2719440" y="0"/>
            <a:ext cx="2286144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11" name="Objeto 3"/>
          <p:cNvGraphicFramePr/>
          <p:nvPr/>
        </p:nvGraphicFramePr>
        <p:xfrm>
          <a:off x="1268280" y="781200"/>
          <a:ext cx="10663200" cy="5900760"/>
        </p:xfrm>
        <a:graphic>
          <a:graphicData uri="http://schemas.openxmlformats.org/presentationml/2006/ole">
            <p:oleObj progId="Excel.Sheet.12" r:id="rId1" spid="">
              <p:embed/>
              <p:pic>
                <p:nvPicPr>
                  <p:cNvPr id="312" name="Objeto 3" descr=""/>
                  <p:cNvPicPr/>
                  <p:nvPr/>
                </p:nvPicPr>
                <p:blipFill>
                  <a:blip r:embed="rId2"/>
                  <a:stretch/>
                </p:blipFill>
                <p:spPr>
                  <a:xfrm>
                    <a:off x="1268280" y="781200"/>
                    <a:ext cx="10663200" cy="59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63040" y="0"/>
            <a:ext cx="7342200" cy="781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90c226"/>
                </a:solidFill>
                <a:latin typeface="Trebuchet MS"/>
              </a:rPr>
              <a:t>Estados financieros HPLFA 2020- 2021</a:t>
            </a:r>
            <a:endParaRPr b="0" lang="en-US" sz="3200" spc="-1" strike="noStrike">
              <a:solidFill>
                <a:srgbClr val="90c226"/>
              </a:solidFill>
              <a:latin typeface="Trebuchet MS"/>
            </a:endParaRPr>
          </a:p>
        </p:txBody>
      </p:sp>
      <p:sp>
        <p:nvSpPr>
          <p:cNvPr id="314" name="Rectangle 2"/>
          <p:cNvSpPr/>
          <p:nvPr/>
        </p:nvSpPr>
        <p:spPr>
          <a:xfrm>
            <a:off x="442800" y="825480"/>
            <a:ext cx="262987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Rectangle 2"/>
          <p:cNvSpPr/>
          <p:nvPr/>
        </p:nvSpPr>
        <p:spPr>
          <a:xfrm>
            <a:off x="2719440" y="0"/>
            <a:ext cx="2286144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Rectangle 2"/>
          <p:cNvSpPr/>
          <p:nvPr/>
        </p:nvSpPr>
        <p:spPr>
          <a:xfrm>
            <a:off x="-2084400" y="2670120"/>
            <a:ext cx="227329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17" name="Objeto 5"/>
          <p:cNvGraphicFramePr/>
          <p:nvPr/>
        </p:nvGraphicFramePr>
        <p:xfrm>
          <a:off x="295200" y="825480"/>
          <a:ext cx="10588680" cy="5796000"/>
        </p:xfrm>
        <a:graphic>
          <a:graphicData uri="http://schemas.openxmlformats.org/presentationml/2006/ole">
            <p:oleObj progId="Excel.Sheet.12" r:id="rId1" spid="">
              <p:embed/>
              <p:pic>
                <p:nvPicPr>
                  <p:cNvPr id="318" name="Objeto 5" descr=""/>
                  <p:cNvPicPr/>
                  <p:nvPr/>
                </p:nvPicPr>
                <p:blipFill>
                  <a:blip r:embed="rId2"/>
                  <a:stretch/>
                </p:blipFill>
                <p:spPr>
                  <a:xfrm>
                    <a:off x="295200" y="825480"/>
                    <a:ext cx="10588680" cy="57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63040" y="0"/>
            <a:ext cx="7342200" cy="781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90c226"/>
                </a:solidFill>
                <a:latin typeface="Trebuchet MS"/>
              </a:rPr>
              <a:t>Estados financieros HPLFA-2020- 2021</a:t>
            </a:r>
            <a:endParaRPr b="0" lang="en-US" sz="3200" spc="-1" strike="noStrike">
              <a:solidFill>
                <a:srgbClr val="90c226"/>
              </a:solidFill>
              <a:latin typeface="Trebuchet MS"/>
            </a:endParaRPr>
          </a:p>
        </p:txBody>
      </p:sp>
      <p:sp>
        <p:nvSpPr>
          <p:cNvPr id="320" name="Rectangle 2"/>
          <p:cNvSpPr/>
          <p:nvPr/>
        </p:nvSpPr>
        <p:spPr>
          <a:xfrm>
            <a:off x="442800" y="825480"/>
            <a:ext cx="262987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Rectangle 2"/>
          <p:cNvSpPr/>
          <p:nvPr/>
        </p:nvSpPr>
        <p:spPr>
          <a:xfrm>
            <a:off x="2719440" y="0"/>
            <a:ext cx="2286144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Rectangle 2"/>
          <p:cNvSpPr/>
          <p:nvPr/>
        </p:nvSpPr>
        <p:spPr>
          <a:xfrm>
            <a:off x="-2084400" y="2670120"/>
            <a:ext cx="227329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Rectangle 2"/>
          <p:cNvSpPr/>
          <p:nvPr/>
        </p:nvSpPr>
        <p:spPr>
          <a:xfrm>
            <a:off x="-2965320" y="870120"/>
            <a:ext cx="27459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24" name="Objeto 7"/>
          <p:cNvGraphicFramePr/>
          <p:nvPr/>
        </p:nvGraphicFramePr>
        <p:xfrm>
          <a:off x="0" y="914400"/>
          <a:ext cx="11415600" cy="5781600"/>
        </p:xfrm>
        <a:graphic>
          <a:graphicData uri="http://schemas.openxmlformats.org/presentationml/2006/ole">
            <p:oleObj progId="Excel.Sheet.12" r:id="rId1" spid="">
              <p:embed/>
              <p:pic>
                <p:nvPicPr>
                  <p:cNvPr id="325" name="Objeto 7" descr=""/>
                  <p:cNvPicPr/>
                  <p:nvPr/>
                </p:nvPicPr>
                <p:blipFill>
                  <a:blip r:embed="rId2"/>
                  <a:stretch/>
                </p:blipFill>
                <p:spPr>
                  <a:xfrm>
                    <a:off x="0" y="914400"/>
                    <a:ext cx="11415600" cy="578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63040" y="0"/>
            <a:ext cx="7342200" cy="781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90c226"/>
                </a:solidFill>
                <a:latin typeface="Trebuchet MS"/>
              </a:rPr>
              <a:t>Estados financieros HPLFA-2020-2021</a:t>
            </a:r>
            <a:endParaRPr b="0" lang="en-US" sz="3200" spc="-1" strike="noStrike">
              <a:solidFill>
                <a:srgbClr val="90c226"/>
              </a:solidFill>
              <a:latin typeface="Trebuchet MS"/>
            </a:endParaRPr>
          </a:p>
        </p:txBody>
      </p:sp>
      <p:sp>
        <p:nvSpPr>
          <p:cNvPr id="327" name="Rectangle 2"/>
          <p:cNvSpPr/>
          <p:nvPr/>
        </p:nvSpPr>
        <p:spPr>
          <a:xfrm>
            <a:off x="442800" y="825480"/>
            <a:ext cx="262987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Rectangle 2"/>
          <p:cNvSpPr/>
          <p:nvPr/>
        </p:nvSpPr>
        <p:spPr>
          <a:xfrm>
            <a:off x="2719440" y="0"/>
            <a:ext cx="2286144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Rectangle 2"/>
          <p:cNvSpPr/>
          <p:nvPr/>
        </p:nvSpPr>
        <p:spPr>
          <a:xfrm>
            <a:off x="-2084400" y="2670120"/>
            <a:ext cx="227329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Rectangle 2"/>
          <p:cNvSpPr/>
          <p:nvPr/>
        </p:nvSpPr>
        <p:spPr>
          <a:xfrm>
            <a:off x="-2965320" y="870120"/>
            <a:ext cx="27459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Rectangle 2"/>
          <p:cNvSpPr/>
          <p:nvPr/>
        </p:nvSpPr>
        <p:spPr>
          <a:xfrm>
            <a:off x="-3710160" y="2093760"/>
            <a:ext cx="2839896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Rectangle 5"/>
          <p:cNvSpPr/>
          <p:nvPr/>
        </p:nvSpPr>
        <p:spPr>
          <a:xfrm>
            <a:off x="-4429080" y="1352520"/>
            <a:ext cx="2784456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33" name="Objeto 10"/>
          <p:cNvGraphicFramePr/>
          <p:nvPr/>
        </p:nvGraphicFramePr>
        <p:xfrm>
          <a:off x="147600" y="633240"/>
          <a:ext cx="11458440" cy="6091560"/>
        </p:xfrm>
        <a:graphic>
          <a:graphicData uri="http://schemas.openxmlformats.org/presentationml/2006/ole">
            <p:oleObj progId="Excel.Sheet.12" r:id="rId1" spid="">
              <p:embed/>
              <p:pic>
                <p:nvPicPr>
                  <p:cNvPr id="334" name="Objeto 10" descr=""/>
                  <p:cNvPicPr/>
                  <p:nvPr/>
                </p:nvPicPr>
                <p:blipFill>
                  <a:blip r:embed="rId2"/>
                  <a:stretch/>
                </p:blipFill>
                <p:spPr>
                  <a:xfrm>
                    <a:off x="147600" y="633240"/>
                    <a:ext cx="11458440" cy="609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63040" y="0"/>
            <a:ext cx="7342200" cy="781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90c226"/>
                </a:solidFill>
                <a:latin typeface="Trebuchet MS"/>
              </a:rPr>
              <a:t>Estados financieros HPLFA 2020-2021</a:t>
            </a:r>
            <a:endParaRPr b="0" lang="en-US" sz="3200" spc="-1" strike="noStrike">
              <a:solidFill>
                <a:srgbClr val="90c226"/>
              </a:solidFill>
              <a:latin typeface="Trebuchet MS"/>
            </a:endParaRPr>
          </a:p>
        </p:txBody>
      </p:sp>
      <p:sp>
        <p:nvSpPr>
          <p:cNvPr id="336" name="Rectangle 2"/>
          <p:cNvSpPr/>
          <p:nvPr/>
        </p:nvSpPr>
        <p:spPr>
          <a:xfrm>
            <a:off x="442800" y="825480"/>
            <a:ext cx="262987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Rectangle 2"/>
          <p:cNvSpPr/>
          <p:nvPr/>
        </p:nvSpPr>
        <p:spPr>
          <a:xfrm>
            <a:off x="2719440" y="0"/>
            <a:ext cx="2286144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ectangle 2"/>
          <p:cNvSpPr/>
          <p:nvPr/>
        </p:nvSpPr>
        <p:spPr>
          <a:xfrm>
            <a:off x="-2084400" y="2670120"/>
            <a:ext cx="2273292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Rectangle 2"/>
          <p:cNvSpPr/>
          <p:nvPr/>
        </p:nvSpPr>
        <p:spPr>
          <a:xfrm>
            <a:off x="-2965320" y="870120"/>
            <a:ext cx="27459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Rectangle 2"/>
          <p:cNvSpPr/>
          <p:nvPr/>
        </p:nvSpPr>
        <p:spPr>
          <a:xfrm>
            <a:off x="-1484280" y="4390920"/>
            <a:ext cx="5259708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Rectangle 5"/>
          <p:cNvSpPr/>
          <p:nvPr/>
        </p:nvSpPr>
        <p:spPr>
          <a:xfrm>
            <a:off x="-974880" y="1400040"/>
            <a:ext cx="2784636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ectangle 2"/>
          <p:cNvSpPr/>
          <p:nvPr/>
        </p:nvSpPr>
        <p:spPr>
          <a:xfrm>
            <a:off x="2225520" y="2297160"/>
            <a:ext cx="2258064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43" name="Objeto 8"/>
          <p:cNvGraphicFramePr/>
          <p:nvPr/>
        </p:nvGraphicFramePr>
        <p:xfrm>
          <a:off x="133200" y="633240"/>
          <a:ext cx="11842920" cy="5753160"/>
        </p:xfrm>
        <a:graphic>
          <a:graphicData uri="http://schemas.openxmlformats.org/presentationml/2006/ole">
            <p:oleObj progId="Excel.Sheet.12" r:id="rId1" spid="">
              <p:embed/>
              <p:pic>
                <p:nvPicPr>
                  <p:cNvPr id="344" name="Objeto 8" descr=""/>
                  <p:cNvPicPr/>
                  <p:nvPr/>
                </p:nvPicPr>
                <p:blipFill>
                  <a:blip r:embed="rId2"/>
                  <a:stretch/>
                </p:blipFill>
                <p:spPr>
                  <a:xfrm>
                    <a:off x="133200" y="633240"/>
                    <a:ext cx="11842920" cy="575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0"/>
            <a:ext cx="10515600" cy="8031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PLATAFORMA ESTRATEGICA</a:t>
            </a:r>
            <a:endParaRPr b="0" lang="en-US" sz="3600" spc="-1" strike="noStrike">
              <a:solidFill>
                <a:srgbClr val="90c226"/>
              </a:solidFill>
              <a:latin typeface="Trebuchet MS"/>
            </a:endParaRPr>
          </a:p>
        </p:txBody>
      </p:sp>
      <p:sp>
        <p:nvSpPr>
          <p:cNvPr id="229" name=""/>
          <p:cNvSpPr txBox="1"/>
          <p:nvPr/>
        </p:nvSpPr>
        <p:spPr>
          <a:xfrm>
            <a:off x="193680" y="582480"/>
            <a:ext cx="11638080" cy="615024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404040"/>
                </a:solidFill>
                <a:latin typeface="Trebuchet MS"/>
              </a:rPr>
              <a:t>OBJETIVOS ESTRATEGICOS</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1.Prestar servicios de salud que mejoren la calidad de vida de la comunidad mediante la eficiencia y efectividad cumpliendo con la norma y los atributos de calidad.</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2.Fortalecimiento de los programas de protección específica y detección temprana de la comunidad.</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3.Ampliar el portafolio para la prestación de los servicios de salud y ventas de los mismos.</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4.Mantener la sostenibilidad financiera y económica maximizando las ganancias operacionales y de productividad de la empresa.</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5.Optimizar la capacidad instalada.</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6.Promover y mantener un clima laboral adecuado, mediante programas de desarrollo y estímulo del talento humano.</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7.Establecer un proceso de mejoramiento y mantenimiento del sistema de Calidad en la prestación de servicios de salud con la participación activa de todos sus colaboradores.</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8.Fortalecer la transformación cultural y organizacional de la empresa.</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9.Brindar acompañamiento a la asociación de usuarios.</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10.Mantener la rentabilidad social, garantizando la calidad en la prestación de los servicios de salud. </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11.Establecer la participación comunitaria como elemento garante del cumplimiento de los derechos y deberes de los usuarios, en pro de una mejor calidad y oportunidad en la prestación del servicio de salud.</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12.Implementar el sistema de gestión ambiental.</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13.Fortalecer la infraestructura física, tecnológica y operacional para dar cumplimiento al nuevo modelo de atención.</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Trebuchet MS"/>
              </a:rPr>
              <a:t>14.Fortalecer la gestión administrativa, mediante la planeación estratégica que permita la eficiencia de los recursos técnicos, humanos y científicos. </a:t>
            </a:r>
            <a:endParaRPr b="0" lang="en-US" sz="16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90c226"/>
                </a:solidFill>
                <a:latin typeface="Trebuchet MS"/>
              </a:rPr>
              <a:t>INFORME RENDICION DE CUENTAS</a:t>
            </a:r>
            <a:endParaRPr b="0" lang="en-US" sz="3600" spc="-1" strike="noStrike">
              <a:solidFill>
                <a:srgbClr val="90c226"/>
              </a:solidFill>
              <a:latin typeface="Trebuchet MS"/>
            </a:endParaRPr>
          </a:p>
        </p:txBody>
      </p:sp>
      <p:sp>
        <p:nvSpPr>
          <p:cNvPr id="231" name="Elipse 5"/>
          <p:cNvSpPr/>
          <p:nvPr/>
        </p:nvSpPr>
        <p:spPr>
          <a:xfrm>
            <a:off x="3719520" y="1298520"/>
            <a:ext cx="3025800" cy="1457280"/>
          </a:xfrm>
          <a:prstGeom prst="ellipse">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GESTION FINANCIERA Y ADMINSITRATIVA</a:t>
            </a:r>
            <a:endParaRPr b="0" lang="en-US" sz="1800" spc="-1" strike="noStrike">
              <a:solidFill>
                <a:srgbClr val="000000"/>
              </a:solidFill>
              <a:latin typeface="Calibri"/>
            </a:endParaRPr>
          </a:p>
        </p:txBody>
      </p:sp>
      <p:sp>
        <p:nvSpPr>
          <p:cNvPr id="232" name="Conector recto 7"/>
          <p:cNvSpPr/>
          <p:nvPr/>
        </p:nvSpPr>
        <p:spPr>
          <a:xfrm>
            <a:off x="5187960" y="2849400"/>
            <a:ext cx="0" cy="1046160"/>
          </a:xfrm>
          <a:prstGeom prst="line">
            <a:avLst/>
          </a:prstGeom>
          <a:ln cap="rnd" w="12600">
            <a:solidFill>
              <a:srgbClr val="90c2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Elipse 8"/>
          <p:cNvSpPr/>
          <p:nvPr/>
        </p:nvSpPr>
        <p:spPr>
          <a:xfrm>
            <a:off x="3679920" y="3638520"/>
            <a:ext cx="3025800" cy="1360440"/>
          </a:xfrm>
          <a:prstGeom prst="ellipse">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RENDICION DE CUENTAS</a:t>
            </a:r>
            <a:endParaRPr b="0" lang="en-US" sz="1800" spc="-1" strike="noStrike">
              <a:solidFill>
                <a:srgbClr val="000000"/>
              </a:solidFill>
              <a:latin typeface="Calibri"/>
            </a:endParaRPr>
          </a:p>
        </p:txBody>
      </p:sp>
      <p:sp>
        <p:nvSpPr>
          <p:cNvPr id="234" name="Conector recto 10"/>
          <p:cNvSpPr/>
          <p:nvPr/>
        </p:nvSpPr>
        <p:spPr>
          <a:xfrm>
            <a:off x="6262560" y="4799160"/>
            <a:ext cx="987480" cy="442800"/>
          </a:xfrm>
          <a:prstGeom prst="line">
            <a:avLst/>
          </a:prstGeom>
          <a:ln cap="rnd" w="12600">
            <a:solidFill>
              <a:srgbClr val="90c2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Elipse 11"/>
          <p:cNvSpPr/>
          <p:nvPr/>
        </p:nvSpPr>
        <p:spPr>
          <a:xfrm>
            <a:off x="7288200" y="5121360"/>
            <a:ext cx="46080" cy="46080"/>
          </a:xfrm>
          <a:prstGeom prst="ellipse">
            <a:avLst/>
          </a:prstGeom>
          <a:solidFill>
            <a:srgbClr val="90c226"/>
          </a:solidFill>
          <a:ln cap="rnd" w="19080">
            <a:solidFill>
              <a:srgbClr val="688e19"/>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Elipse 12"/>
          <p:cNvSpPr/>
          <p:nvPr/>
        </p:nvSpPr>
        <p:spPr>
          <a:xfrm>
            <a:off x="7174080" y="4998960"/>
            <a:ext cx="3176280" cy="1387440"/>
          </a:xfrm>
          <a:prstGeom prst="ellipse">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GESTION</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ATENCION AL CIUDADANO</a:t>
            </a:r>
            <a:endParaRPr b="0" lang="en-US" sz="1800" spc="-1" strike="noStrike">
              <a:solidFill>
                <a:srgbClr val="000000"/>
              </a:solidFill>
              <a:latin typeface="Calibri"/>
            </a:endParaRPr>
          </a:p>
        </p:txBody>
      </p:sp>
      <p:sp>
        <p:nvSpPr>
          <p:cNvPr id="237" name="Conector recto 14"/>
          <p:cNvSpPr/>
          <p:nvPr/>
        </p:nvSpPr>
        <p:spPr>
          <a:xfrm flipH="1">
            <a:off x="3471480" y="4630680"/>
            <a:ext cx="1087560" cy="582840"/>
          </a:xfrm>
          <a:prstGeom prst="line">
            <a:avLst/>
          </a:prstGeom>
          <a:ln cap="rnd" w="12600">
            <a:solidFill>
              <a:srgbClr val="90c2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Elipse 15"/>
          <p:cNvSpPr/>
          <p:nvPr/>
        </p:nvSpPr>
        <p:spPr>
          <a:xfrm>
            <a:off x="1285920" y="5060880"/>
            <a:ext cx="2738520" cy="1325520"/>
          </a:xfrm>
          <a:prstGeom prst="ellipse">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GESTION</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CLINICA SALUD</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PUBLI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4560" y="151920"/>
            <a:ext cx="11451960" cy="824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90c226"/>
                </a:solidFill>
                <a:latin typeface="Trebuchet MS"/>
              </a:rPr>
              <a:t>LINEAS DE ACCIÓN O ESTRATEGICAS </a:t>
            </a:r>
            <a:br>
              <a:rPr sz="3200"/>
            </a:br>
            <a:endParaRPr b="0" lang="en-US" sz="3200" spc="-1" strike="noStrike">
              <a:solidFill>
                <a:srgbClr val="90c226"/>
              </a:solidFill>
              <a:latin typeface="Trebuchet MS"/>
            </a:endParaRPr>
          </a:p>
        </p:txBody>
      </p:sp>
      <p:sp>
        <p:nvSpPr>
          <p:cNvPr id="240" name="PlaceHolder 2"/>
          <p:cNvSpPr>
            <a:spLocks noGrp="1"/>
          </p:cNvSpPr>
          <p:nvPr>
            <p:ph/>
          </p:nvPr>
        </p:nvSpPr>
        <p:spPr>
          <a:xfrm>
            <a:off x="844560" y="1344600"/>
            <a:ext cx="8021520" cy="990720"/>
          </a:xfrm>
          <a:prstGeom prst="rect">
            <a:avLst/>
          </a:prstGeom>
          <a:noFill/>
          <a:ln w="0">
            <a:noFill/>
          </a:ln>
        </p:spPr>
        <p:txBody>
          <a:bodyPr anchor="b">
            <a:normAutofit/>
          </a:bodyPr>
          <a:p>
            <a:pPr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404040"/>
                </a:solidFill>
                <a:latin typeface="Trebuchet MS"/>
              </a:rPr>
              <a:t> </a:t>
            </a:r>
            <a:r>
              <a:rPr b="0" lang="es-ES" sz="3200" spc="-1" strike="noStrike">
                <a:solidFill>
                  <a:srgbClr val="404040"/>
                </a:solidFill>
                <a:latin typeface="Trebuchet MS"/>
              </a:rPr>
              <a:t>GESTION DE SERVICIOS EN SALUD</a:t>
            </a:r>
            <a:endParaRPr b="0" lang="en-US" sz="3200" spc="-1" strike="noStrike">
              <a:solidFill>
                <a:srgbClr val="404040"/>
              </a:solidFill>
              <a:latin typeface="Trebuchet MS"/>
            </a:endParaRPr>
          </a:p>
        </p:txBody>
      </p:sp>
      <p:sp>
        <p:nvSpPr>
          <p:cNvPr id="241" name=""/>
          <p:cNvSpPr txBox="1"/>
          <p:nvPr/>
        </p:nvSpPr>
        <p:spPr>
          <a:xfrm>
            <a:off x="304920" y="2549520"/>
            <a:ext cx="10640880" cy="37260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Trebuchet MS"/>
              </a:rPr>
              <a:t>1. </a:t>
            </a:r>
            <a:r>
              <a:rPr b="1" lang="es-ES" sz="2400" spc="-1" strike="noStrike">
                <a:solidFill>
                  <a:srgbClr val="404040"/>
                </a:solidFill>
                <a:latin typeface="Trebuchet MS"/>
              </a:rPr>
              <a:t>Objetivo</a:t>
            </a:r>
            <a:endParaRPr b="0" lang="en-US" sz="24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404040"/>
                </a:solidFill>
                <a:latin typeface="Trebuchet MS"/>
              </a:rPr>
              <a:t>Mejorar la calidad de vida de los Alejandrinos mediante la Prestación de los servicios de salud integrales, humanizados, adecuados y oportunos, fortaleciendo los programas de prevención, promoción, control y vigilancia de la enfermedad según el ciclo de vida mediante el conocimiento técnico científico con enfoque de calidad y mejoramiento continuo</a:t>
            </a:r>
            <a:endParaRPr b="0" lang="en-US" sz="24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221760"/>
            <a:ext cx="10515600" cy="7621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90c226"/>
                </a:solidFill>
                <a:latin typeface="Trebuchet MS"/>
              </a:rPr>
              <a:t>Estrategias</a:t>
            </a:r>
            <a:endParaRPr b="0" lang="en-US" sz="3600" spc="-1" strike="noStrike">
              <a:solidFill>
                <a:srgbClr val="90c226"/>
              </a:solidFill>
              <a:latin typeface="Trebuchet MS"/>
            </a:endParaRPr>
          </a:p>
        </p:txBody>
      </p:sp>
      <p:sp>
        <p:nvSpPr>
          <p:cNvPr id="243" name=""/>
          <p:cNvSpPr txBox="1"/>
          <p:nvPr/>
        </p:nvSpPr>
        <p:spPr>
          <a:xfrm>
            <a:off x="151920" y="870120"/>
            <a:ext cx="11749320" cy="58845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Posicionar el hospital como un centro de servicios de baja complejidad con algunos servicios de mediana complejidad.</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Incrementar la eficiencia y efectividad de la atención en salud.</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Incrementar la satisfacción de la comunidad con respeto a los servicios de salud.</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Fomentar cultura del autocuidado en la población.</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Atención humanizada.</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Incrementar las capacidades y competencias del talento humano.</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Mejorar la eficacia y eficiencia de los procesos y actividades de la atención hospitalaria según la demanda y capacidad resolutiva. </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Disminuir el riesgo perinatal a través de la captación oportuna de gestantes y seguimiento del protocolo respecto a sífilis congénita.</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Aumentar las características de calidad de vida de los usuarios con Enfermedad Hipertensiva a través de una mejor aplicación de la guía de manejo de la misma.</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Implementar un nuevo modelo de atención en salud.</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900" spc="-1" strike="noStrike">
                <a:solidFill>
                  <a:srgbClr val="404040"/>
                </a:solidFill>
                <a:latin typeface="Trebuchet MS"/>
              </a:rPr>
              <a:t>Desarrollar políticas y programas institucionales de impacto social que permitan mejorar las condiciones de salud de la comunidad. (AIPEI, IAMI, APS.PIC,MAITE ETC)</a:t>
            </a:r>
            <a:endParaRPr b="0" lang="en-US" sz="19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111240"/>
            <a:ext cx="10515600" cy="720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600" spc="-1" strike="noStrike">
                <a:solidFill>
                  <a:srgbClr val="90c226"/>
                </a:solidFill>
                <a:latin typeface="Trebuchet MS"/>
              </a:rPr>
              <a:t>Estrategias</a:t>
            </a:r>
            <a:endParaRPr b="0" lang="en-US" sz="3600" spc="-1" strike="noStrike">
              <a:solidFill>
                <a:srgbClr val="90c226"/>
              </a:solidFill>
              <a:latin typeface="Trebuchet MS"/>
            </a:endParaRPr>
          </a:p>
        </p:txBody>
      </p:sp>
      <p:sp>
        <p:nvSpPr>
          <p:cNvPr id="245" name=""/>
          <p:cNvSpPr txBox="1"/>
          <p:nvPr/>
        </p:nvSpPr>
        <p:spPr>
          <a:xfrm>
            <a:off x="304920" y="969480"/>
            <a:ext cx="11734560" cy="55832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Trebuchet MS"/>
              </a:rPr>
              <a:t>Aumentar las posibilidades de detección temprana de las alteraciones en Crecimiento y Desarrollo a través de la aplicación estricta y constante de la guía de manejo de P y P de acuerdo a la normatividad vigente y a las características de la población menor de 10 años.</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Trebuchet MS"/>
              </a:rPr>
              <a:t>Aumentar la eficacia en la atención de urgencias a través de un mejor manejo y capacidad resolutiva fundamentados en la práctica médica y políticas institucionales.</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Trebuchet MS"/>
              </a:rPr>
              <a:t>Ampliación de la oferta y cobertura de los servicios, con base en las necesidades sentidas de los clientes internos, externos y EAPB.</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Trebuchet MS"/>
              </a:rPr>
              <a:t>Disminuir la prevalencia de las tres (3) primeras causas de morbilidad de la ESE por medio de la estricta aplicación de las Guías de manejo de las mismas.</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Trebuchet MS"/>
              </a:rPr>
              <a:t>Desarrollar las actividades de protección específica y detección temprana con enfoque en Gestión individual del riesgo al individuo, la comunidad y la familia.</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Trebuchet MS"/>
              </a:rPr>
              <a:t>Desarrollar las actividades PEDT a través de la estrategia de atención primaria en salud.</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Trebuchet MS"/>
              </a:rPr>
              <a:t>Posicionar el servicio de Protección específica y detección temprana de la ESE como garante en el apalancamiento y sostenibilidad de la Empresa bajo la apropiación de conocimientos que conlleven a la cultura del autocuidado de la comunidad Alejandrina.</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2800" y="503280"/>
            <a:ext cx="11180520" cy="1100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90c226"/>
                </a:solidFill>
                <a:latin typeface="Trebuchet MS"/>
              </a:rPr>
              <a:t>1.GESTION DE SERVICIOS EN SALUD</a:t>
            </a:r>
            <a:br>
              <a:rPr sz="3200"/>
            </a:br>
            <a:r>
              <a:rPr b="0" lang="es-ES" sz="1800" spc="-1" strike="noStrike">
                <a:solidFill>
                  <a:srgbClr val="90c226"/>
                </a:solidFill>
                <a:latin typeface="Trebuchet MS"/>
              </a:rPr>
              <a:t>PORTAFOLIO DE SERVICIOS DE SALUD</a:t>
            </a:r>
            <a:br>
              <a:rPr sz="3200"/>
            </a:br>
            <a:endParaRPr b="0" lang="en-US" sz="1800" spc="-1" strike="noStrike">
              <a:solidFill>
                <a:srgbClr val="90c226"/>
              </a:solidFill>
              <a:latin typeface="Trebuchet MS"/>
            </a:endParaRPr>
          </a:p>
        </p:txBody>
      </p:sp>
      <p:graphicFrame>
        <p:nvGraphicFramePr>
          <p:cNvPr id="247" name=""/>
          <p:cNvGraphicFramePr/>
          <p:nvPr/>
        </p:nvGraphicFramePr>
        <p:xfrm>
          <a:off x="557280" y="1603440"/>
          <a:ext cx="9820080" cy="5245200"/>
        </p:xfrm>
        <a:graphic>
          <a:graphicData uri="http://schemas.openxmlformats.org/drawingml/2006/table">
            <a:tbl>
              <a:tblPr/>
              <a:tblGrid>
                <a:gridCol w="8642160"/>
                <a:gridCol w="1177920"/>
              </a:tblGrid>
              <a:tr h="189000">
                <a:tc>
                  <a:txBody>
                    <a:bodyPr lIns="66960" rIns="669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entury Gothic"/>
                          <a:ea typeface="Times New Roman"/>
                        </a:rPr>
                        <a:t>Servici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solidFill>
                      <a:srgbClr val="3366ff"/>
                    </a:solidFill>
                  </a:tcPr>
                </a:tc>
                <a:tc>
                  <a:txBody>
                    <a:bodyPr lIns="66960" rIns="66960" tIns="0" bIns="0" anchor="ctr">
                      <a:noAutofit/>
                    </a:bodyPr>
                    <a:p>
                      <a:pPr marL="6480" indent="-6480"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entury Gothic"/>
                          <a:ea typeface="Times New Roman"/>
                        </a:rPr>
                        <a:t>Distintiv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solidFill>
                      <a:srgbClr val="3366ff"/>
                    </a:solidFill>
                  </a:tcPr>
                </a:tc>
              </a:tr>
              <a:tr h="1872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01 -GENERAL ADULTOS</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395</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02 -GENERAL PEDIÁTRICA</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396</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72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12 -OBSTETRICIA</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397</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28 -MEDICINA GENERAL</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398</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34 -ODONTOLOGÍA GENERAL</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399</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2682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44 -PSICOLOGÍA</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1097399</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501 -SERVICIO DE URGENCIAS</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0</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72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601 -TRANSPORTE ASISTENCIAL BÁSIC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1</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706 -LABORATORIO CLÍNIC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2</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2682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712 -TOMA DE MUESTRAS DE LABORATORIO CLÍNIC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1097400</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714 -SERVICIO FARMACÉUTIC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3</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864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724 -TOMA E INTERPRETACIÓN DE RADIOGRAFÍAS ODONTOLÓGICAS</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4</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756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741 -TAMIZACIÓN DE CÁNCER DE CUELLO UTERIN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5</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07 -PROTECCIÓN ESPECÍFICA - ATENCIÓN DEL PART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6</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72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08 -PROTECCIÓN ESPECÍFICA - ATENCIÓN AL RECIÉN NACID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7</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09 -DETECCIÓN TEMPRANA - ALTERACIONES DEL CRECIMIENTO Y DESARROLLO ( MENOR A 10 AÑOS)</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8</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864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10 -DETECCIÓN TEMPRANA - ALTERACIONES DEL DESARROLLO DEL JOVEN ( DE 10 A 29 AÑOS)</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09</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756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11 -DETECCIÓN TEMPRANA - ALTERACIONES DEL EMBARAZ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0</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864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12 -DETECCIÓN TEMPRANA - ALTERACIONES EN EL ADULTO ( MAYOR A 45 AÑOS)</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1</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756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13 -DETECCIÓN TEMPRANA - CÁNCER DE CUELLO UTERIN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2</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914 -DETECCIÓN TEMPRANA - CÁNCER SENO</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3</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864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15 -DETECCIÓN TEMPRANA - ALTERACIONES DE LA AGUDEZA VISUAL</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4</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756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916 -PROTECCIÓN ESPECÍFICA - VACUNACIÓN</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5</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864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17 -PROTECCIÓN ESPECÍFICA - ATENCIÓN PREVENTIVA EN SALUD BUCAL</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6</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756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Century Gothic"/>
                          <a:ea typeface="Times New Roman"/>
                        </a:rPr>
                        <a:t>918 -PROTECCIÓN ESPECÍFICA - ATENCIÓN EN PLANIFICACIÓN FAMILIAR HOMBRES Y MUJERES</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7</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r h="189000">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950 -PROCESO ESTERILIZACIÓN</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c>
                  <a:txBody>
                    <a:bodyPr lIns="66960" rIns="66960" tIns="0" bIns="0" anchor="ctr">
                      <a:noAutofit/>
                    </a:bodyPr>
                    <a:p>
                      <a:pPr marL="6480" indent="-6480">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DHS002418</a:t>
                      </a:r>
                      <a:endParaRPr b="0" lang="en-US" sz="900" spc="-1" strike="noStrike">
                        <a:solidFill>
                          <a:srgbClr val="000000"/>
                        </a:solidFill>
                        <a:latin typeface="Calibri"/>
                      </a:endParaRPr>
                    </a:p>
                  </a:txBody>
                  <a:tcPr anchor="ctr" marL="66960" marR="66960">
                    <a:lnL w="5760">
                      <a:solidFill>
                        <a:srgbClr val="0094c7"/>
                      </a:solidFill>
                    </a:lnL>
                    <a:lnR w="5760">
                      <a:solidFill>
                        <a:srgbClr val="0094c7"/>
                      </a:solidFill>
                    </a:lnR>
                    <a:lnT w="5760">
                      <a:solidFill>
                        <a:srgbClr val="0094c7"/>
                      </a:solidFill>
                    </a:lnT>
                    <a:lnB w="5760">
                      <a:solidFill>
                        <a:srgbClr val="0094c7"/>
                      </a:solidFill>
                    </a:lnB>
                    <a:noFill/>
                  </a:tcPr>
                </a:tc>
              </a:tr>
            </a:tbl>
          </a:graphicData>
        </a:graphic>
      </p:graphicFrame>
      <p:sp>
        <p:nvSpPr>
          <p:cNvPr id="248" name="Rectangle 4"/>
          <p:cNvSpPr/>
          <p:nvPr/>
        </p:nvSpPr>
        <p:spPr>
          <a:xfrm>
            <a:off x="-4138560" y="0"/>
            <a:ext cx="1972152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13T18:56:45Z</dcterms:created>
  <dc:creator>GERENTE-</dc:creator>
  <dc:description/>
  <dc:language>en-US</dc:language>
  <cp:lastModifiedBy>Diexter Z</cp:lastModifiedBy>
  <dcterms:modified xsi:type="dcterms:W3CDTF">2022-04-09T14:29:58Z</dcterms:modified>
  <cp:revision>63</cp:revision>
  <dc:subject/>
  <dc:title>Presentación de PowerPoint</dc:title>
</cp:coreProperties>
</file>